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2743-6840-4CF2-B120-703505B5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6742-890D-4CAB-83F8-88B39F65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B0B5-4A72-457F-BCD9-1008E77A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873B-4387-4901-9AC5-2967EB01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9837-E455-4A41-8942-E83EC480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31E7-A167-42F0-ACAA-E9E2F6AA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7E61-5C81-499A-A60E-B472189D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D275-CB61-42CA-8CA6-E9F6243F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D71-B17C-469C-8C70-BC24D6DB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A166-D1F1-45B6-A3EC-359D8A45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8D65-07EC-4328-B0E1-29ADD797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624C-6BCA-4175-A969-1593ECD8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F946-16E6-494D-94DD-3C0896A036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omonosov.pomorsu.ru/img/zal3_img1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59022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399"/>
              </a:lnSpc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69228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ВЕЛИКИЙ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СЫН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СЕВЕРА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514 -0.67546 C -0.16337 -0.66504 -0.13177 -0.65439 -0.09462 -0.6456 C -0.05781 -0.63703 -0.0026 -0.63912 0.02674 -0.62314 C 0.05573 -0.60787 0.07465 -0.57638 0.08073 -0.55023 C 0.08681 -0.52453 0.08143 -0.4875 0.06372 -0.46736 C 0.04566 -0.44814 -0.00156 -0.4412 -0.02726 -0.4331 C -0.05312 -0.42546 -0.06215 -0.42476 -0.09114 -0.42083 C -0.12014 -0.41713 -0.18229 -0.42777 -0.20087 -0.41088 C -0.21944 -0.39375 -0.23333 -0.33773 -0.20278 -0.3199 C -0.17187 -0.30185 -0.06232 -0.30648 -0.0151 -0.3037 C 0.03212 -0.30092 0.06736 -0.31759 0.07969 -0.3037 C 0.09254 -0.28958 0.08785 -0.23796 0.05903 -0.21851 C 0.02986 -0.19953 -0.04878 -0.19537 -0.09357 -0.18819 C -0.13854 -0.18101 -0.19705 -0.19629 -0.21024 -0.1743 C -0.22378 -0.15185 -0.20937 -0.08379 -0.17448 -0.05486 C -0.13941 -0.02569 -0.06962 -0.01296 -1.66667E-006 -4.44444E-006 E">
                                      <p:cBhvr>
                                        <p:cTn id="6" dur="8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8000"/>
                            </p:stCondLst>
                            <p:childTnLst>
                              <p:par>
                                <p:cTn id="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925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192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192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192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925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1925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1925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1925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925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1925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1925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1925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5790960" cy="4572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1523880" y="228240"/>
            <a:ext cx="56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Ломоносов  в  Славяно-греко-латинской  академ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523880" y="1143000"/>
            <a:ext cx="656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 Академии Михаил изучал латинский язык, русский, математику, риторику, стихосложение, политику и философию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karamzin"/>
          <p:cNvPicPr/>
          <p:nvPr/>
        </p:nvPicPr>
        <p:blipFill>
          <a:blip r:embed="rId1"/>
          <a:stretch/>
        </p:blipFill>
        <p:spPr>
          <a:xfrm>
            <a:off x="2195640" y="0"/>
            <a:ext cx="46479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566064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.М. КАРАМ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AutoShape 5">
            <a:hlinkClick r:id="rId2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лышали му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довые ду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летевши, с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адости зап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да стали я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пали в напа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язли бо н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х! – плачут убоги,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ду полиз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сами проп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403280" y="0"/>
            <a:ext cx="58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042920" y="0"/>
            <a:ext cx="64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3851280" y="260280"/>
            <a:ext cx="4800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Михаил Ломоносов утверждал, что Вселенная бесконечн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Он сам сконструировал телескоп для наблюдения за звездами и планета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6" descr="4"/>
          <p:cNvPicPr/>
          <p:nvPr/>
        </p:nvPicPr>
        <p:blipFill>
          <a:blip r:embed="rId1"/>
          <a:srcRect l="0" t="21524" r="262" b="0"/>
          <a:stretch/>
        </p:blipFill>
        <p:spPr>
          <a:xfrm>
            <a:off x="2556000" y="2847960"/>
            <a:ext cx="6588000" cy="4010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8[1]"/>
          <p:cNvPicPr/>
          <p:nvPr/>
        </p:nvPicPr>
        <p:blipFill>
          <a:blip r:embed="rId2"/>
          <a:stretch/>
        </p:blipFill>
        <p:spPr>
          <a:xfrm>
            <a:off x="0" y="0"/>
            <a:ext cx="3414600" cy="43527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6156360" y="6165720"/>
            <a:ext cx="129528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219640" y="6524640"/>
            <a:ext cx="115272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419640" y="2924280"/>
            <a:ext cx="72072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2"/>
          <p:cNvPicPr/>
          <p:nvPr/>
        </p:nvPicPr>
        <p:blipFill>
          <a:blip r:embed="rId1"/>
          <a:srcRect l="0" t="24397" r="0" b="0"/>
          <a:stretch/>
        </p:blipFill>
        <p:spPr>
          <a:xfrm>
            <a:off x="0" y="0"/>
            <a:ext cx="4875120" cy="4683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3"/>
          <p:cNvPicPr/>
          <p:nvPr/>
        </p:nvPicPr>
        <p:blipFill>
          <a:blip r:embed="rId2"/>
          <a:srcRect l="51766" t="2528" r="5506" b="53646"/>
          <a:stretch/>
        </p:blipFill>
        <p:spPr>
          <a:xfrm>
            <a:off x="6012000" y="260280"/>
            <a:ext cx="2735280" cy="3745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82320" y="4932360"/>
            <a:ext cx="808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рупнейшим достижением ученог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было открытие атмосферы на Венер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539640" y="981000"/>
            <a:ext cx="7920000" cy="30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РАБОТУ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Lomonosov_(3)"/>
          <p:cNvPicPr/>
          <p:nvPr/>
        </p:nvPicPr>
        <p:blipFill>
          <a:blip r:embed="rId1"/>
          <a:srcRect l="0" t="20047" r="0" b="0"/>
          <a:stretch/>
        </p:blipFill>
        <p:spPr>
          <a:xfrm>
            <a:off x="900000" y="0"/>
            <a:ext cx="7164360" cy="68738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5437080" y="18900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В. Ломонос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ВИЖНИ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 (высок.). Человек, героически принявший на себя тяжёлый труд или лишения, муки ради  достижения высокой цели.  (Подвижник науки). // подвижница, // прил. (Подвижнический труд)  ( самоотверженны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ОБЫТ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воеобразный, не похожий на других, идущий своими путями, самостоятельный в своём развитии. (Самобытный талант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ВЕЩ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распространение знаний,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omonosov"/>
          <p:cNvPicPr/>
          <p:nvPr/>
        </p:nvPicPr>
        <p:blipFill>
          <a:blip r:embed="rId1"/>
          <a:srcRect l="5901" t="0" r="5112" b="0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Родина М.В.Ломоносова</a:t>
            </a:r>
            <a:br>
              <a:rPr sz="4000"/>
            </a:b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Место рождения Михаила Ломоносова – деревня Мишанинская Холмогорского уезда Архангельской губер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95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Monotype Corsiva"/>
              </a:rPr>
              <a:t>Михаил Ломоносов  в м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962520" cy="4754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5105520" y="2246400"/>
            <a:ext cx="3809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Когда мальчику исполнилось 10 лет, отец стал брать его с собой в море в качестве юнги. Поездки с отцом в море оставили в душе Михаила неизгладимый след. Они закалили его физически и обогатили разнообразными впечатления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25040" cy="4572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1372320" y="228600"/>
            <a:ext cx="388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Корабль плывет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Когда-нибудь с годам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сё виденное в море, каждый зву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Он выразил певучими стихам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о славу русской музы и нау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Monotype Corsiva"/>
              </a:rPr>
              <a:t>Первые учебник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8_1_m"/>
          <p:cNvPicPr/>
          <p:nvPr/>
        </p:nvPicPr>
        <p:blipFill>
          <a:blip r:embed="rId1"/>
          <a:stretch/>
        </p:blipFill>
        <p:spPr>
          <a:xfrm>
            <a:off x="609480" y="1676520"/>
            <a:ext cx="289584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18_2_m"/>
          <p:cNvPicPr/>
          <p:nvPr/>
        </p:nvPicPr>
        <p:blipFill>
          <a:blip r:embed="rId2"/>
          <a:stretch/>
        </p:blipFill>
        <p:spPr>
          <a:xfrm>
            <a:off x="533520" y="3809880"/>
            <a:ext cx="2819160" cy="21812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4648320" y="1523880"/>
            <a:ext cx="4265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Monotype Corsiva"/>
              </a:rPr>
              <a:t>«Грамматика»  Смотрицкого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Monotype Corsiva"/>
              </a:rPr>
              <a:t>«Арифметика» Магницког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Путь Ломоносова из Холмогор в Москв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&quot;Юноша Ломоносов на пути в Москву&quot; Художник Н. И. Кисляков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905120"/>
            <a:ext cx="2895840" cy="3773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map"/>
          <p:cNvPicPr/>
          <p:nvPr/>
        </p:nvPicPr>
        <p:blipFill>
          <a:blip r:embed="rId3"/>
          <a:stretch/>
        </p:blipFill>
        <p:spPr>
          <a:xfrm>
            <a:off x="1258920" y="1844640"/>
            <a:ext cx="3600360" cy="4248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2590920" y="6172200"/>
            <a:ext cx="579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Monotype Corsiva"/>
              </a:rPr>
              <a:t>Н.И. Кисляков «Юноша Ломоносов на пути в Москву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7:20:35Z</dcterms:created>
  <dc:creator>методический</dc:creator>
  <dc:description/>
  <dc:language>en-US</dc:language>
  <cp:lastModifiedBy>Дмитрий</cp:lastModifiedBy>
  <dcterms:modified xsi:type="dcterms:W3CDTF">2011-10-24T11:59:59Z</dcterms:modified>
  <cp:revision>104</cp:revision>
  <dc:subject/>
  <dc:title>Слайд 1</dc:title>
</cp:coreProperties>
</file>