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B53-07C1-462F-B355-7838B25A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F46-B6A2-4954-8C65-B7E460F6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0A8-F450-46DD-8AAE-2120E916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E78-C8CC-4FB8-9057-D749339E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319-FB6F-4B91-A107-72F4795F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1C7-AE1C-470B-8967-5DD6ABCB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A4B6-52A2-43C8-B11D-5A2DEFDC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CEA-F79B-4CC7-81E7-14A60977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90D-DA8C-45B3-A5BA-4F937C8A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074-967A-479F-B985-CF41F85E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DA2-5827-486B-94E1-F4F317A7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A0A-027C-4374-BD7B-35757012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A156-7DF9-4DA9-8E6E-820A3F08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9.xml"/><Relationship Id="rId3" Type="http://schemas.openxmlformats.org/officeDocument/2006/relationships/slide" Target="slide13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37.xml"/><Relationship Id="rId14" Type="http://schemas.openxmlformats.org/officeDocument/2006/relationships/slide" Target="slide27.xml"/><Relationship Id="rId15" Type="http://schemas.openxmlformats.org/officeDocument/2006/relationships/slide" Target="slide29.xml"/><Relationship Id="rId16" Type="http://schemas.openxmlformats.org/officeDocument/2006/relationships/slide" Target="slide31.xml"/><Relationship Id="rId17" Type="http://schemas.openxmlformats.org/officeDocument/2006/relationships/slide" Target="slide35.xml"/><Relationship Id="rId18" Type="http://schemas.openxmlformats.org/officeDocument/2006/relationships/slide" Target="slide33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" Target="slide43.xml"/><Relationship Id="rId22" Type="http://schemas.openxmlformats.org/officeDocument/2006/relationships/slide" Target="slide47.xml"/><Relationship Id="rId23" Type="http://schemas.openxmlformats.org/officeDocument/2006/relationships/slide" Target="slide45.xml"/><Relationship Id="rId24" Type="http://schemas.openxmlformats.org/officeDocument/2006/relationships/slide" Target="slide51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omonosov_(3)"/>
          <p:cNvPicPr/>
          <p:nvPr/>
        </p:nvPicPr>
        <p:blipFill>
          <a:blip r:embed="rId1"/>
          <a:srcRect l="0" t="13575" r="0" b="0"/>
          <a:stretch/>
        </p:blipFill>
        <p:spPr>
          <a:xfrm>
            <a:off x="0" y="0"/>
            <a:ext cx="4070520" cy="4221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0" y="4221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Интеллектуальная иг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для учеников 5 клас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590220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399"/>
              </a:lnSpc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ОУ «СОШ № 3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.Коряжмы»           20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го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51280" y="476280"/>
            <a:ext cx="5292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«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ВЕЛИКИЙ СЫН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СЕВЕРА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wmpaud1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14 -0.67546 C -0.16337 -0.66504 -0.13177 -0.65439 -0.09462 -0.6456 C -0.05781 -0.63703 -0.0026 -0.63912 0.02674 -0.62314 C 0.05573 -0.60787 0.07465 -0.57638 0.08073 -0.55023 C 0.08681 -0.52453 0.08143 -0.4875 0.06372 -0.46736 C 0.04566 -0.44814 -0.00156 -0.4412 -0.02726 -0.4331 C -0.05312 -0.42546 -0.06215 -0.42476 -0.09114 -0.42083 C -0.12014 -0.41713 -0.18229 -0.42777 -0.20087 -0.41088 C -0.21944 -0.39375 -0.23333 -0.33773 -0.20278 -0.3199 C -0.17187 -0.30185 -0.06232 -0.30648 -0.0151 -0.3037 C 0.03212 -0.30092 0.06736 -0.31759 0.07969 -0.3037 C 0.09254 -0.28958 0.08785 -0.23796 0.05903 -0.21851 C 0.02986 -0.19953 -0.04878 -0.19537 -0.09357 -0.18819 C -0.13854 -0.18101 -0.19705 -0.19629 -0.21024 -0.1743 C -0.22378 -0.15185 -0.20937 -0.08379 -0.17448 -0.05486 C -0.13941 -0.02569 -0.06962 -0.01296 -1.66667E-006 -4.44444E-006 E">
                                      <p:cBhvr>
                                        <p:cTn id="8" dur="8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84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92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60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925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1557360"/>
            <a:ext cx="77040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7628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 какую страну был послан  Ломоносов  для изучения  механики, физики  и химии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655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184464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 Германию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260280"/>
            <a:ext cx="9144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де  был установлен первый памятник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.В. Ломоносову?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655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Памятник Ломоносову в Архангельске"/>
          <p:cNvPicPr/>
          <p:nvPr/>
        </p:nvPicPr>
        <p:blipFill>
          <a:blip r:embed="rId1"/>
          <a:srcRect l="0" t="15126" r="0" b="0"/>
          <a:stretch/>
        </p:blipFill>
        <p:spPr>
          <a:xfrm>
            <a:off x="1476360" y="0"/>
            <a:ext cx="60595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4284720" y="0"/>
            <a:ext cx="35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Архангельск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AutoShape 3">
            <a:hlinkClick r:id="rId2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34-3422_IMG"/>
          <p:cNvPicPr/>
          <p:nvPr/>
        </p:nvPicPr>
        <p:blipFill>
          <a:blip r:embed="rId1"/>
          <a:srcRect l="0" t="0" r="41776" b="0"/>
          <a:stretch/>
        </p:blipFill>
        <p:spPr>
          <a:xfrm>
            <a:off x="0" y="0"/>
            <a:ext cx="53229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минута.mp3" descr=""/>
          <p:cNvPicPr/>
          <p:nvPr/>
        </p:nvPicPr>
        <p:blipFill>
          <a:blip r:embed="rId2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5435640" y="549360"/>
            <a:ext cx="370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7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зовите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втора памятник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.В. Ломоносов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 Коряжме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655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95280" y="669960"/>
            <a:ext cx="806436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Скульптор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НИКОЛАЙ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ТОМСКИЙ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Памятник Ломоносову в Ломоносово"/>
          <p:cNvPicPr/>
          <p:nvPr/>
        </p:nvPicPr>
        <p:blipFill>
          <a:blip r:embed="rId1"/>
          <a:srcRect l="0" t="3799" r="0" b="801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4572000" y="981000"/>
            <a:ext cx="457200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де установлен этот памятник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то его автор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 балла: по 2 балл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 каждый отве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минута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655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50920" y="0"/>
            <a:ext cx="889308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мятни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.В. Ломоносову на родине учёного в селе Ломоносов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кульптор И. Козловский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58 го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Памятник Ломоносову в Архангельске"/>
          <p:cNvPicPr/>
          <p:nvPr/>
        </p:nvPicPr>
        <p:blipFill>
          <a:blip r:embed="rId1"/>
          <a:srcRect l="0" t="8334" r="1963" b="0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0" y="4962600"/>
            <a:ext cx="914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каком году  был открыт памятни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.В. Ломоносову в  Архангельске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то его автор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4 балла: по 2 балла за  каждый ответ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минута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655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-27000"/>
          <a:ext cx="9144000" cy="6840720"/>
        </p:xfrm>
        <a:graphic>
          <a:graphicData uri="http://schemas.openxmlformats.org/drawingml/2006/table">
            <a:tbl>
              <a:tblPr/>
              <a:tblGrid>
                <a:gridCol w="1830240"/>
                <a:gridCol w="1836720"/>
                <a:gridCol w="1819440"/>
                <a:gridCol w="1827360"/>
                <a:gridCol w="1830240"/>
              </a:tblGrid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13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0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0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0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0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0e3f8"/>
                    </a:solidFill>
                  </a:tcPr>
                </a:tc>
              </a:tr>
            </a:tbl>
          </a:graphicData>
        </a:graphic>
      </p:graphicFrame>
      <p:sp>
        <p:nvSpPr>
          <p:cNvPr id="47" name="Text Box 153"/>
          <p:cNvSpPr/>
          <p:nvPr/>
        </p:nvSpPr>
        <p:spPr>
          <a:xfrm>
            <a:off x="468360" y="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155"/>
          <p:cNvSpPr/>
          <p:nvPr/>
        </p:nvSpPr>
        <p:spPr>
          <a:xfrm>
            <a:off x="0" y="476280"/>
            <a:ext cx="16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156"/>
          <p:cNvSpPr/>
          <p:nvPr/>
        </p:nvSpPr>
        <p:spPr>
          <a:xfrm>
            <a:off x="5508720" y="58514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157"/>
          <p:cNvSpPr/>
          <p:nvPr/>
        </p:nvSpPr>
        <p:spPr>
          <a:xfrm>
            <a:off x="0" y="1844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8"/>
          <p:cNvSpPr/>
          <p:nvPr/>
        </p:nvSpPr>
        <p:spPr>
          <a:xfrm>
            <a:off x="1908000" y="1844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59"/>
          <p:cNvSpPr/>
          <p:nvPr/>
        </p:nvSpPr>
        <p:spPr>
          <a:xfrm>
            <a:off x="3780000" y="404640"/>
            <a:ext cx="16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60"/>
          <p:cNvSpPr/>
          <p:nvPr/>
        </p:nvSpPr>
        <p:spPr>
          <a:xfrm>
            <a:off x="1908000" y="47628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61"/>
          <p:cNvSpPr/>
          <p:nvPr/>
        </p:nvSpPr>
        <p:spPr>
          <a:xfrm>
            <a:off x="5580000" y="404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62"/>
          <p:cNvSpPr/>
          <p:nvPr/>
        </p:nvSpPr>
        <p:spPr>
          <a:xfrm>
            <a:off x="7524720" y="47628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63"/>
          <p:cNvSpPr/>
          <p:nvPr/>
        </p:nvSpPr>
        <p:spPr>
          <a:xfrm>
            <a:off x="1979640" y="314172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64"/>
          <p:cNvSpPr/>
          <p:nvPr/>
        </p:nvSpPr>
        <p:spPr>
          <a:xfrm>
            <a:off x="250920" y="321300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65"/>
          <p:cNvSpPr/>
          <p:nvPr/>
        </p:nvSpPr>
        <p:spPr>
          <a:xfrm>
            <a:off x="3780000" y="1844640"/>
            <a:ext cx="16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66"/>
          <p:cNvSpPr/>
          <p:nvPr/>
        </p:nvSpPr>
        <p:spPr>
          <a:xfrm>
            <a:off x="5508720" y="1844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67"/>
          <p:cNvSpPr/>
          <p:nvPr/>
        </p:nvSpPr>
        <p:spPr>
          <a:xfrm>
            <a:off x="7308720" y="1844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68"/>
          <p:cNvSpPr/>
          <p:nvPr/>
        </p:nvSpPr>
        <p:spPr>
          <a:xfrm>
            <a:off x="3780000" y="4508640"/>
            <a:ext cx="16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69"/>
          <p:cNvSpPr/>
          <p:nvPr/>
        </p:nvSpPr>
        <p:spPr>
          <a:xfrm>
            <a:off x="3780000" y="3141720"/>
            <a:ext cx="16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70"/>
          <p:cNvSpPr/>
          <p:nvPr/>
        </p:nvSpPr>
        <p:spPr>
          <a:xfrm>
            <a:off x="5508720" y="314172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71"/>
          <p:cNvSpPr/>
          <p:nvPr/>
        </p:nvSpPr>
        <p:spPr>
          <a:xfrm>
            <a:off x="7308720" y="314172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72"/>
          <p:cNvSpPr/>
          <p:nvPr/>
        </p:nvSpPr>
        <p:spPr>
          <a:xfrm>
            <a:off x="2050920" y="4508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3"/>
          <p:cNvSpPr/>
          <p:nvPr/>
        </p:nvSpPr>
        <p:spPr>
          <a:xfrm>
            <a:off x="179280" y="4508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74"/>
          <p:cNvSpPr/>
          <p:nvPr/>
        </p:nvSpPr>
        <p:spPr>
          <a:xfrm>
            <a:off x="5508720" y="4508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75"/>
          <p:cNvSpPr/>
          <p:nvPr/>
        </p:nvSpPr>
        <p:spPr>
          <a:xfrm>
            <a:off x="7308720" y="4508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176"/>
          <p:cNvSpPr/>
          <p:nvPr/>
        </p:nvSpPr>
        <p:spPr>
          <a:xfrm>
            <a:off x="0" y="5851440"/>
            <a:ext cx="16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77"/>
          <p:cNvSpPr/>
          <p:nvPr/>
        </p:nvSpPr>
        <p:spPr>
          <a:xfrm>
            <a:off x="3851280" y="58514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178"/>
          <p:cNvSpPr/>
          <p:nvPr/>
        </p:nvSpPr>
        <p:spPr>
          <a:xfrm>
            <a:off x="1908000" y="58514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79"/>
          <p:cNvSpPr/>
          <p:nvPr/>
        </p:nvSpPr>
        <p:spPr>
          <a:xfrm>
            <a:off x="7308720" y="58514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9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иография    М.В. Ломонос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192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амятники   М.В. Ломоносов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93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Холмогорская земля - родина Ломонос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94"/>
          <p:cNvSpPr/>
          <p:nvPr/>
        </p:nvSpPr>
        <p:spPr>
          <a:xfrm>
            <a:off x="324000" y="414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орячий  патриот  Росс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95"/>
          <p:cNvSpPr/>
          <p:nvPr/>
        </p:nvSpPr>
        <p:spPr>
          <a:xfrm>
            <a:off x="0" y="551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памяти  благодарных потомк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39640" y="0"/>
            <a:ext cx="806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 1832 году. Скульптор Иван Петрович Мартос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234-3422_IMG"/>
          <p:cNvPicPr/>
          <p:nvPr/>
        </p:nvPicPr>
        <p:blipFill>
          <a:blip r:embed="rId1"/>
          <a:srcRect l="0" t="0" r="41776" b="0"/>
          <a:stretch/>
        </p:blipFill>
        <p:spPr>
          <a:xfrm>
            <a:off x="0" y="0"/>
            <a:ext cx="53229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минута.mp3" descr=""/>
          <p:cNvPicPr/>
          <p:nvPr/>
        </p:nvPicPr>
        <p:blipFill>
          <a:blip r:embed="rId2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5435640" y="549360"/>
            <a:ext cx="3708360" cy="48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10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 каком году откры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амятни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.В. Ломоносов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 Коряжм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655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611280" y="14130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В 1981 году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3032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16 веке  в Холмогорах  англичане строили свои  конторы, дома, склады товаров. Здесь они основали  первую в Московском  государстве фабрик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выпускали на этой фабрик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655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155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НА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265680"/>
            <a:ext cx="9144000" cy="62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звестный русский зоолог и путешественник И.И. Лепёхин записал в 1772 году:»Всяк знает, что поморский скот, пригоняемый в Петербург и другие города под именем холмогорского скота, отменен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Какое животное имел в виду  зоолог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655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487584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рову холмогорку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30 г. в Холмогорах был организован известный на всю страну племзавод.  Здесь выводятся  телята знаменитой  на весь мир  пород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5" descr="Корова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7487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 центре села Ломоносова стоит двухэтажное здание - фабрика художественной резьбы п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По какому материалу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минута.mp3" descr=""/>
          <p:cNvPicPr/>
          <p:nvPr/>
        </p:nvPicPr>
        <p:blipFill>
          <a:blip r:embed="rId1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655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Шкатулка"/>
          <p:cNvPicPr/>
          <p:nvPr/>
        </p:nvPicPr>
        <p:blipFill>
          <a:blip r:embed="rId1"/>
          <a:stretch/>
        </p:blipFill>
        <p:spPr>
          <a:xfrm>
            <a:off x="826920" y="39600"/>
            <a:ext cx="7452000" cy="6818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000" y="6109920"/>
            <a:ext cx="78138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 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0" y="0"/>
            <a:ext cx="914400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ти через 20 лет вслед за Ломоносовым  из Денисовки в Петербург ушёл юноша, который за 14 лет прошёл путь от истопника до скульптора-академ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то    этот  знаменитый земляк  Ломоносова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655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0"/>
            <a:ext cx="91440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декабре 1730 года без ведома отца  Михаил Ломоносов ушёл в Москву и поступил  в  академию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ак называлась эта академи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655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Shubin,_Fedot_Ivanovich"/>
          <p:cNvPicPr/>
          <p:nvPr/>
        </p:nvPicPr>
        <p:blipFill>
          <a:blip r:embed="rId1"/>
          <a:stretch/>
        </p:blipFill>
        <p:spPr>
          <a:xfrm>
            <a:off x="1490760" y="0"/>
            <a:ext cx="616104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1258920" y="6278400"/>
            <a:ext cx="66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ДОТ ИВАНОВИЧ ШУБ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0" y="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вестно, что в 15 веке Холмогоры в составе Московских владений стали столицей Двинской земли.  Здесь торговали мехами, солёной беломорской рыбой – сёмгой, треской, палтусом. Особое место в торговле занимала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кончите фраз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655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395280" y="126828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0" y="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то было открыто по инициативе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.В. Ломоносова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 1755 году в Москве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655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 flipV="1" rot="10800000">
            <a:off x="0" y="55465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УНИВЕРСИТЕТ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5" descr="lomonosov"/>
          <p:cNvPicPr/>
          <p:nvPr/>
        </p:nvPicPr>
        <p:blipFill>
          <a:blip r:embed="rId1"/>
          <a:stretch/>
        </p:blipFill>
        <p:spPr>
          <a:xfrm>
            <a:off x="395280" y="0"/>
            <a:ext cx="838836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0" y="0"/>
            <a:ext cx="9144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было построено  Ломоносовым  в Петербурге на стрелке Васильевского остров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В музее, который находится  в селе Ломоносове, есть её  макет. Он выполнен в одну десятую натуральной величины и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 000 различных деталей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655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79280" y="6216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АЯ ЛАБОРАТОР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макет химической лаборатории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0" y="0"/>
            <a:ext cx="914400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ю жизни Ломоносова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 самого последнего дня было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«утверждение … в отечестве»,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которое он считал залогом процветания своей родин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акое слово пропущено в цитате Ломоносов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655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900000" y="1557360"/>
            <a:ext cx="742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НАУК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0" y="189000"/>
            <a:ext cx="9144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.В. Ломоносов является автором мозаичных картин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ак называется самая большая мозаика Ломоносова, сохранившаяся до наших дней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6550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981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АВЯНО-ГРЕКО-ЛАТИНСКАЯ АКАДЕМ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Lomonosov_Poltava_1762_1764"/>
          <p:cNvPicPr/>
          <p:nvPr/>
        </p:nvPicPr>
        <p:blipFill>
          <a:blip r:embed="rId1"/>
          <a:stretch/>
        </p:blipFill>
        <p:spPr>
          <a:xfrm>
            <a:off x="395280" y="0"/>
            <a:ext cx="8318520" cy="57592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0" y="52419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тавская батал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арадная лестница здания Академии наук в С-Петербурге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.В. Ломоносов – автор художественных произвед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писал Ломонос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зовите  литературный жанр, в котором он отличил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655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то назва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.В. Ломоносова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«первым нашим университетом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655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219280" y="2421000"/>
            <a:ext cx="392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PP032"/>
          <p:cNvPicPr/>
          <p:nvPr/>
        </p:nvPicPr>
        <p:blipFill>
          <a:blip r:embed="rId1"/>
          <a:stretch/>
        </p:blipFill>
        <p:spPr>
          <a:xfrm>
            <a:off x="0" y="0"/>
            <a:ext cx="526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Ломоносов на пути в Москву"/>
          <p:cNvPicPr/>
          <p:nvPr/>
        </p:nvPicPr>
        <p:blipFill>
          <a:blip r:embed="rId1"/>
          <a:stretch/>
        </p:blipFill>
        <p:spPr>
          <a:xfrm>
            <a:off x="0" y="0"/>
            <a:ext cx="4510080" cy="6783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00720" y="-360"/>
            <a:ext cx="4643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каком веке нарисована эта картина художник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. Кисляков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она называе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 балла: по 2 балла за каждый 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минута.mp3" descr=""/>
          <p:cNvPicPr/>
          <p:nvPr/>
        </p:nvPicPr>
        <p:blipFill>
          <a:blip r:embed="rId2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6550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«Юный Ломоносов на пути в Москву»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нарисована в 20 век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( в 1948 году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му принадлежат эти слов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«Рождённый под хладным небом северной  России, с пламенным воображением, сын бедного рыбака сделался отцом российского красноречия…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6550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karamzin"/>
          <p:cNvPicPr/>
          <p:nvPr/>
        </p:nvPicPr>
        <p:blipFill>
          <a:blip r:embed="rId1"/>
          <a:stretch/>
        </p:blipFill>
        <p:spPr>
          <a:xfrm>
            <a:off x="2195640" y="0"/>
            <a:ext cx="464796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.М. КАРАМЗ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Музей"/>
          <p:cNvPicPr/>
          <p:nvPr/>
        </p:nvPicPr>
        <p:blipFill>
          <a:blip r:embed="rId1"/>
          <a:srcRect l="1965" t="0" r="1965" b="13175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ком году в селе Ломоносове был открыт мемориальный дом-муз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минута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655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0"/>
            <a:ext cx="9144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Как звали отц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М.В. Ломоносова?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назовите его имя и отчество)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655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7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В 1940 год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20-UARIOUS ARTISTS _ TIME (1 MINUTE)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6195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ое отно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М.В. Ломоносову имеет это зд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P6130158"/>
          <p:cNvPicPr/>
          <p:nvPr/>
        </p:nvPicPr>
        <p:blipFill>
          <a:blip r:embed="rId2"/>
          <a:srcRect l="5415" t="0" r="0" b="14304"/>
          <a:stretch/>
        </p:blipFill>
        <p:spPr>
          <a:xfrm>
            <a:off x="1332000" y="2116080"/>
            <a:ext cx="65516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655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0" y="6922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Это здание КФ ПГУ носит имя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М.В. Ломоносов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11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1773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асилий Дорофеевич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260280"/>
            <a:ext cx="914400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ие две книги Ломоносов называл «вратами своей учёности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8 баллов: по  2 балла за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вание и автор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655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Арифметика»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агницкого,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Грамматика»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мотрицкого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26028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Сколько было лет Ломоносову, когда он  пешком отправился в Москву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655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20:35Z</dcterms:created>
  <dc:creator>методический</dc:creator>
  <dc:description/>
  <dc:language>en-US</dc:language>
  <cp:lastModifiedBy>Admin</cp:lastModifiedBy>
  <dcterms:modified xsi:type="dcterms:W3CDTF">2011-01-25T20:33:10Z</dcterms:modified>
  <cp:revision>98</cp:revision>
  <dc:subject/>
  <dc:title>Слайд 1</dc:title>
</cp:coreProperties>
</file>