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4618-B0DC-48C7-97D8-221BFFDC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A642-3A52-4948-918E-410A02C0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6C61-96B9-4EAC-95E4-AD68CE82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CA2-F9E7-4387-8C16-19673893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09E8-73BA-46B2-8031-06334F2C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CC5E-BD3B-4A69-B1D0-3E7BEB8C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0363-2CD4-4E81-A4B4-9BA1BD9E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23C3-328C-48A8-9FCD-A8530757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AB83-0A9A-4A69-8A13-164DDDE6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C5E6-9707-4F5D-97C9-51BACC4B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29D9-5842-4FA0-A8A3-8B9FA93B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83ED-448A-41CF-95EE-DC8A7598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36AB-9E12-4AAD-A9A5-ED82E161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3340-6D54-47B0-BFC8-18F1F637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1591-8BD9-44F3-88EF-C96F6843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B6BA-FA10-475B-9766-725DA4CC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EFF3-6059-4EA9-B185-4B3557A9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9B696-DCF9-4A42-85E4-B61F30DA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229B0-D8B2-46B1-ABB6-87D1D3F9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889DA-5D92-4C70-9B26-74511436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CC16F-FF75-4EAF-B2C7-7C2E5881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93765-01E7-4D49-84D5-3862822C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D6B7-768A-4702-970A-3CFE7A75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DB6B3-FA13-4413-A195-BB32C590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1FDCA-7310-4198-942E-85A6C2D7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C19F7-6D36-46CB-B812-5428D15F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8C86-8699-4707-B34D-2E4B9D05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2BC25-876F-47FE-AB6F-6BAF575C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5810D-391F-4D4D-B73A-3C3B5354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129D3-2DBA-4173-8E4B-77D4FB69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AFA5-2850-4900-8710-99CEA3BD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EA2F-D202-47FF-A65F-288D1ECF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ED1-91FF-40EB-AA69-9453424C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AE5-D4FC-4136-A6AC-7BC856A1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2E59-EB32-4967-B691-0392D6BF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0066-F64A-4C4C-B9BC-2530FA3D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cc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971A-BC2D-4D57-9CF3-0F6E74630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0463-9440-48B2-82FA-91C1AADBD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288D-14E5-4C27-886A-F6B847272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704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5292720" y="836640"/>
            <a:ext cx="3851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Baskerville Old Face"/>
              </a:rPr>
              <a:t>«</a:t>
            </a:r>
            <a:r>
              <a:rPr b="1" i="1" lang="en-US" sz="3200" spc="-1" strike="noStrike">
                <a:solidFill>
                  <a:srgbClr val="990033"/>
                </a:solidFill>
                <a:latin typeface="Baskerville Old Face"/>
              </a:rPr>
              <a:t>Oh</a:t>
            </a:r>
            <a:r>
              <a:rPr b="1" i="1" lang="ru-RU" sz="3200" spc="-1" strike="noStrike">
                <a:solidFill>
                  <a:srgbClr val="990033"/>
                </a:solidFill>
                <a:latin typeface="Baskerville Old Face"/>
              </a:rPr>
              <a:t>! </a:t>
            </a:r>
            <a:r>
              <a:rPr b="1" i="1" lang="en-US" sz="3200" spc="-1" strike="noStrike">
                <a:solidFill>
                  <a:srgbClr val="990033"/>
                </a:solidFill>
                <a:latin typeface="Baskerville Old Face"/>
              </a:rPr>
              <a:t>You </a:t>
            </a:r>
            <a:r>
              <a:rPr b="1" i="1" lang="ru-RU" sz="3200" spc="-1" strike="noStrike">
                <a:solidFill>
                  <a:srgbClr val="990033"/>
                </a:solidFill>
                <a:latin typeface="Baskerville Old Face"/>
              </a:rPr>
              <a:t>!</a:t>
            </a:r>
            <a:r>
              <a:rPr b="1" i="1" lang="en-US" sz="3200" spc="-1" strike="noStrike">
                <a:solidFill>
                  <a:srgbClr val="990033"/>
                </a:solidFill>
                <a:latin typeface="Baskerville Old Face"/>
              </a:rPr>
              <a:t> Which wait for motherland from heart (depth) yourself…</a:t>
            </a:r>
            <a:r>
              <a:rPr b="1" i="1" lang="ru-RU" sz="3200" spc="-1" strike="noStrike">
                <a:solidFill>
                  <a:srgbClr val="990033"/>
                </a:solidFill>
                <a:latin typeface="Baskerville Old Face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24000" y="1528200"/>
            <a:ext cx="8485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00"/>
                </a:solidFill>
                <a:latin typeface="Baskerville Old Face"/>
              </a:rPr>
              <a:t>To conceal</a:t>
            </a:r>
            <a:r>
              <a:rPr b="0" i="1" lang="ru-RU" sz="3200" spc="-1" strike="noStrike">
                <a:solidFill>
                  <a:srgbClr val="000000"/>
                </a:solidFill>
                <a:latin typeface="Baskerville Old Face"/>
              </a:rPr>
              <a:t> – скрывать, утаи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00"/>
                </a:solidFill>
                <a:latin typeface="Baskerville Old Face"/>
              </a:rPr>
              <a:t>A nobleman</a:t>
            </a:r>
            <a:r>
              <a:rPr b="0" i="1" lang="ru-RU" sz="3200" spc="-1" strike="noStrike">
                <a:solidFill>
                  <a:srgbClr val="000000"/>
                </a:solidFill>
                <a:latin typeface="Baskerville Old Face"/>
              </a:rPr>
              <a:t> – дворянин, аристок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00"/>
                </a:solidFill>
                <a:latin typeface="Baskerville Old Face"/>
              </a:rPr>
              <a:t>To be appointed to</a:t>
            </a:r>
            <a:r>
              <a:rPr b="0" i="1" lang="ru-RU" sz="3200" spc="-1" strike="noStrike">
                <a:solidFill>
                  <a:srgbClr val="000000"/>
                </a:solidFill>
                <a:latin typeface="Baskerville Old Face"/>
              </a:rPr>
              <a:t> – быть назначенным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askerville Old Face"/>
              </a:rPr>
              <a:t>(долж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Baskerville Old Face"/>
              </a:rPr>
              <a:t>To found</a:t>
            </a:r>
            <a:r>
              <a:rPr b="0" i="1" lang="en-US" sz="3200" spc="-1" strike="noStrike">
                <a:solidFill>
                  <a:srgbClr val="000000"/>
                </a:solidFill>
                <a:latin typeface="Baskerville Old Face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Baskerville Old Face"/>
              </a:rPr>
              <a:t>осн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Baskerville Old Face"/>
              </a:rPr>
              <a:t>To enrich</a:t>
            </a:r>
            <a:r>
              <a:rPr b="0" i="1" lang="en-US" sz="3200" spc="-1" strike="noStrike">
                <a:solidFill>
                  <a:srgbClr val="000000"/>
                </a:solidFill>
                <a:latin typeface="Baskerville Old Face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Baskerville Old Face"/>
              </a:rPr>
              <a:t>обогащ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00"/>
                </a:solidFill>
                <a:latin typeface="Baskerville Old Face"/>
              </a:rPr>
              <a:t>To forestall –</a:t>
            </a:r>
            <a:r>
              <a:rPr b="0" i="1" lang="ru-RU" sz="3200" spc="-1" strike="noStrike">
                <a:solidFill>
                  <a:srgbClr val="000000"/>
                </a:solidFill>
                <a:latin typeface="Baskerville Old Face"/>
              </a:rPr>
              <a:t> опер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00"/>
                </a:solidFill>
                <a:latin typeface="Baskerville Old Face"/>
              </a:rPr>
              <a:t>Eventually </a:t>
            </a:r>
            <a:r>
              <a:rPr b="0" i="1" lang="ru-RU" sz="3200" spc="-1" strike="noStrike">
                <a:solidFill>
                  <a:srgbClr val="000000"/>
                </a:solidFill>
                <a:latin typeface="Baskerville Old Face"/>
              </a:rPr>
              <a:t>– в конце концов, в конечном ит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Baskerville Old Face"/>
              </a:rPr>
              <a:t>To be memorialized</a:t>
            </a:r>
            <a:r>
              <a:rPr b="0" i="1" lang="en-US" sz="3200" spc="-1" strike="noStrike">
                <a:solidFill>
                  <a:srgbClr val="000000"/>
                </a:solidFill>
                <a:latin typeface="Baskerville Old Face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Baskerville Old Face"/>
              </a:rPr>
              <a:t>увековечить</a:t>
            </a:r>
            <a:r>
              <a:rPr b="0" i="1" lang="en-US" sz="32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Baskerville Old Face"/>
              </a:rPr>
              <a:t>пам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1280" y="692280"/>
            <a:ext cx="795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MT Poster Compressed"/>
              </a:rPr>
              <a:t>What were Lomonosov`s</a:t>
            </a:r>
            <a:r>
              <a:rPr b="0" lang="ru-RU" sz="6000" spc="-1" strike="noStrike">
                <a:solidFill>
                  <a:srgbClr val="000000"/>
                </a:solidFill>
                <a:latin typeface="Bodoni MT Poster Compressed"/>
              </a:rPr>
              <a:t>    </a:t>
            </a:r>
            <a:r>
              <a:rPr b="0" lang="en-US" sz="6000" spc="-1" strike="noStrike">
                <a:solidFill>
                  <a:srgbClr val="000000"/>
                </a:solidFill>
                <a:latin typeface="Bodoni MT Poster Compressed"/>
              </a:rPr>
              <a:t>professions</a:t>
            </a:r>
            <a:r>
              <a:rPr b="0" lang="ru-RU" sz="6000" spc="-1" strike="noStrike">
                <a:solidFill>
                  <a:srgbClr val="000000"/>
                </a:solidFill>
                <a:latin typeface="Bodoni MT Poster Compressed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50920" y="480960"/>
            <a:ext cx="889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askerville Old Face"/>
              </a:rPr>
              <a:t>Agree or disagree with the stat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Lomonosov was the son of a noblem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Lomonosov was always a brilliant stu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He was appointed to a physics position in 174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He founded a university in St. Petersbur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The first Russian grammar was written by Lomonosov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askerville Old Face"/>
              </a:rPr>
              <a:t>Lomonosov got only 1 medal from the Russian Academy of Sci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941640" y="639000"/>
            <a:ext cx="126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11280" y="979920"/>
            <a:ext cx="7991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askerville Old Face"/>
              </a:rPr>
              <a:t>1. It’s wrong. Lomonosov was the son of a fish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askerville Old Face"/>
              </a:rPr>
              <a:t>3. It’s wrong. He was appointed to a physics position in 174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askerville Old Face"/>
              </a:rPr>
              <a:t>4. It’s wrong. He tried, but failed to found a university in St. Petersbur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askerville Old Face"/>
              </a:rPr>
              <a:t>6. It’s wrong. Lomonosov got 2 medals from the Russian Academy of Sci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50920" y="300600"/>
            <a:ext cx="8893080" cy="59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askerville Old Face"/>
              </a:rPr>
              <a:t>Mikhail Vasilyevich Lomonosov was born on the 19th of November in 1711 near Kholmogory in Archangelskaya region (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askerville Old Face"/>
              </a:rPr>
              <a:t>He was the son of a fisherman, and he often worked with his father (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askerville Old Face"/>
              </a:rPr>
              <a:t>At the age of 19 the young man left his house and went on foot to Moscow to get education at the Academy(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askerville Old Face"/>
              </a:rPr>
              <a:t>As he proved to be a brilliant student, so in 1735, he was sent to the Gymnasium of the Academy of Sciences in St. Petersburg (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askerville Old Face"/>
              </a:rPr>
              <a:t>His discoveries and ideas enriched many branches of knowledge, forestalled the science of that time (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askerville Old Face"/>
              </a:rPr>
              <a:t>Lomonosov also wrote poetry, and the first Russian grammar was written by him as well (9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askerville Old Face"/>
              </a:rPr>
              <a:t>In 1755, he managed to found what now Moscow State University 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askerville Old Face"/>
              </a:rPr>
              <a:t>Lomonosov was a member of many Academies and got medals from them (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askerville Old Face"/>
              </a:rPr>
              <a:t>In 1765, Lomonosov caught a cold and died at the age of 54 (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askerville Old Face"/>
              </a:rPr>
              <a:t>He was a great patriot who loved his Motherland and wanted to make it a prosperous country (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7:22:30Z</dcterms:created>
  <dc:creator>SamLab.ws</dc:creator>
  <dc:description/>
  <dc:language>en-US</dc:language>
  <cp:lastModifiedBy>Наталья Леонидовна</cp:lastModifiedBy>
  <dcterms:modified xsi:type="dcterms:W3CDTF">2011-08-14T04:22:44Z</dcterms:modified>
  <cp:revision>5</cp:revision>
  <dc:subject/>
  <dc:title>Слайд 1</dc:title>
</cp:coreProperties>
</file>