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12.png" ContentType="image/png"/>
  <Override PartName="/ppt/media/image40.png" ContentType="image/png"/>
  <Override PartName="/ppt/media/image36.jpeg" ContentType="image/jpeg"/>
  <Override PartName="/ppt/media/image32.jpeg" ContentType="image/jpeg"/>
  <Override PartName="/ppt/media/image41.jpeg" ContentType="image/jpeg"/>
  <Override PartName="/ppt/media/image45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6.jpeg" ContentType="image/jpe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8AF-25B4-4668-948C-ACEEBD30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DAC-668E-4A06-B1C0-4A76507E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569B7-3ABD-4F80-9504-F61B3393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CBC6B-4175-45E3-8CE4-AA316C6F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229EA-C7BC-4980-AF67-ADA37B76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86DD0-6E00-44EE-A7D1-2EF3E29B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B873C-B562-40BF-94A1-6359070A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74700-1533-49F1-91E6-78427D8F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D411E-9703-4D61-B15E-C818B40D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C61D1-72AB-45AB-832A-4B56022B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BD67C-C099-4F5E-875D-64CD2950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19560-0B93-48DC-AD36-F78A381C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302-7337-456E-AB67-167BBC25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EDB13-1F9F-4329-832B-197598ED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ABD39-3C2A-459A-9408-D579AFEE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342CD-CE83-46EE-BCA6-EDEB6284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526F4-E4AD-463C-BA91-6A10FB22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B7B2A-5D85-4840-83F4-F0B480D1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9F0CB-DDDD-45E4-849A-7D6594C2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95868-DEBA-4D1F-80EA-5C011785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8A939-D274-4BFF-A6F6-D068EEF8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8AF97-CE73-41EE-834B-063FC750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1D1C3-DC14-49AF-9E9D-BDDD31CF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4D5-5F56-46FB-B196-F04B7B55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BF8C2-54ED-428C-A909-93433861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C6D2D-4AC4-4AB2-9EF7-7AB982A0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84AAB-0BCA-4035-8442-25ED2891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25DD8-C868-42ED-84B0-909B9A2B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AA440-64A4-47A3-A47B-A6C0A90B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5A8E7-EAFF-4CE8-81C0-23090AAF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D771D-BE24-48DF-BC9F-CF950D30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09658-B978-4BE3-9E05-4F636B5A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8CD9B-4434-436E-9D41-3DFA50F2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83FCD-69BD-42A0-BFCF-68009640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68B2-7BEF-4CF0-B057-5C958E12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831CC-FD71-4877-B761-1342F792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93772-AD2B-4B11-B519-26B06FD8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4B479-FDF4-4B94-B5AA-A40B628E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D3AA6-124E-4ACC-8B6E-34FAA554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709BD-0FEA-4746-910F-FC0CE4C7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B9217-9582-470F-9CE8-5E6777A4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10D59-9F34-4936-9EB0-7CA4AECD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BAEF5-A0A1-4877-B4B9-69E4D6D6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F35E2-331C-432B-84D9-1A7113D8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18DB2-DD4B-4000-B2FD-B8453D58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AC74-DC4C-4C84-8C9E-8B08713C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0C6EA-E66A-44BC-A45C-3E805644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3F9F2-D262-47C3-B43A-B5E7D5D1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75238-B3B9-4473-B8DF-48A62F8A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5668F-45FC-45D6-9F69-77340166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C5B8F-DC8F-4533-86EC-EC4B86DF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B6DD5A-1445-4E91-830E-F247AC4E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ECB073-3E5C-4347-9F55-488B5640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791F5B-3723-4E06-A51F-947CE6AA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B0B309-076D-41BE-B74A-77522983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5019FF-EC58-4CB8-91C0-C033EE2E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82C8-0243-4884-B8AB-B35CC13C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E7FD37-8B6F-4B33-91FE-F0ACA0F5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A6FF35-6AE0-4154-A256-02032C9C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918C2F-8FC5-454C-8176-1173D3D5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DE4344-A99B-47FB-9FA7-8FFF7114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4FDBB0-91D5-4DDC-B136-E5F9E992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D40745-6509-4E1E-B845-D2766981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C12E5A-0BB2-4F25-90D0-89545BAF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EC95-DFAA-4574-9A92-0E86515A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FFFC-4FBE-4694-BEA4-9EAEE1B4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5271-5095-44CD-9FA8-29835B89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8F34-98C3-40FB-95F8-E31300ED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4B6-112C-4CAA-9212-76097D65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52F3-849D-4130-8F36-7743023B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6DA2-20E0-4E2F-921D-22543A5A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DF07-A980-41B1-8FA0-1FD97485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211D-5DD1-41CE-98C2-C5EB334D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BF83-8C92-4C4B-9F0C-06A712AE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821EB-00E1-463A-81A7-51C55700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109E-B5D2-4C83-9AC1-20BB135D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0782-1F66-4237-B97F-30B7E67B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E6E0-DA05-444E-BD96-F7CD6EE6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19234-F9E9-43B5-82CA-3116268F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821-9342-445D-98F1-B801B009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227F9-D8A4-496D-8FCE-1FDA05B6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D94A-C41B-4769-88FC-95BC9773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ADE5A-EC2D-4EEF-9A30-B84319C1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36D80-6B73-4E84-B9FF-90E6BBB0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850A0-A904-4834-9457-93473B26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B6BBD-939A-4343-8BE4-81D285A1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47FD-E6C8-4513-9EB6-76E56432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9C86A-D076-40BD-976A-10CE9E78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19C6E-1D36-4E71-903A-B726D859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EB48D-F255-4275-BF4A-A6ED712C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946-446A-41A1-B072-8BB948C1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C86B4-EBD7-4AEB-ADC4-48E17578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21BEF-A433-4F91-B2BA-6CCF3233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851EC-C60D-4761-ACC5-0E907D21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2F604-B272-4019-820C-DB0A43E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1484B-FA51-4062-B63D-DDB0A680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D0F0F-55C2-440B-8EF5-023FE153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6BECC-C8B8-45A6-9A39-4C0A9D05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A680B-1FF0-4ADC-9044-FCECD906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006E0-323B-4F43-A279-F28219BA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2CD05-E87C-439B-BF09-BFD547CE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EAE-EC81-441F-824C-35CAD974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56D6D-B90E-40F7-8F79-3A7A7FA6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EB456-4657-4E5F-81A0-FACB7511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BDAAB-FDE2-4D47-A1BC-B27E851B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5FF42-558D-4945-8FA4-C859DB40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E92F5-24BC-450F-8384-92B5946B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EBFF-7363-45CB-BF4F-380228C9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B8B61-6C81-4832-95E8-F46B0AAC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FA29F-E179-45D1-9713-37CBBE3E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712D9-7DE7-43DD-AB51-2C7D3A85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73371-AB96-4527-95DB-27494891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449-8D90-4BA4-9E48-3DE9D7F2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0197E-6381-4769-AE01-BB1955C4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066C4-EFD0-477E-A2D9-85301C41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038AA-F0F3-4DD8-BCBE-0CB0AAF9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6A147-1A6F-4CA9-A0CC-764DA901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D231B-C67D-4E61-A717-3387C8E2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3D08E-E21F-4083-8300-BAD444B0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88BDC-965B-4099-B4BF-4BB642FF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2C184-53FC-4B60-9D39-72B56685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7A9DB-DFB6-46E6-9E9B-CE6EC73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1F369-8B8A-4532-84C9-A076CF14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E01-6F97-4BDB-9047-EEDC5688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BD208-BCCA-4D12-8AB7-FA7CE22E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9D0B2-0740-47A4-888D-FD44BD5A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711E9-F1C2-48C6-B20F-DE8FF529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60AF0-2322-479F-934B-4A538C25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ED742-216D-40F7-BE4B-92483C19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42E38-C27B-444B-B861-036D1B38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CA424-FF4E-4316-90C5-BFC11DEA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684CB-06B5-4706-BBB7-90B29F3A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9A9F5-2F7B-4896-882F-61BEB869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9A79B-35A8-41CC-BA6A-EE889892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AD4-D2B6-4F4C-AADA-2A2AAB4B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0BD67-AA78-4E95-99D3-EF6CBFD5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8DA60-727C-475A-864F-EE65C2D9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33A7E-B059-4ED7-9653-7779AC62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89233-E598-44A7-8342-D4B84BB9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44EF1-33F3-4C44-8BAB-8702C7C5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03D8A-C85C-4F8B-A1A0-3A5B9355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BDF97-542E-41E9-928F-DCC294E0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9ABF6-7558-4785-94D6-2E90AF9E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B44C1-6AF0-4620-94D8-2CB8740E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D60AA-924F-4B8E-A776-6DF0173C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ED6-9F38-4617-BFCA-638804AB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DEB57-55D6-4C22-BAF5-0E0CAB2D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5E4A4-B871-4062-828D-B400F51B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896F9-F26E-4EF6-BDD7-A752733C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D59DB-9C0A-452A-9D40-D6D0DB51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E86D4-6820-4D73-9475-DFF6CD22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FC6BF-A5C9-4CE2-86CF-62705869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CFE53-45D9-442F-B9E7-655DEDA7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ABC9E-57BA-46C8-9EB8-C8ECE9E9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24C09-C5EA-45DF-9CAF-18890F93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02F22-AB5F-4677-8C57-481F98CE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9D49-CEFC-48FB-9A5D-DDF4FDEF303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7200"/>
            <a:ext cx="1104840" cy="6891840"/>
            <a:chOff x="0" y="-7200"/>
            <a:chExt cx="1104840" cy="689184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90800" y="2885400"/>
              <a:ext cx="6888600" cy="110340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92240" y="2909160"/>
              <a:ext cx="6867720" cy="108288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1520" y="3882960"/>
            <a:ext cx="774720" cy="768240"/>
            <a:chOff x="6851520" y="3882960"/>
            <a:chExt cx="774720" cy="7682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1520" y="388296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84840" y="4565520"/>
            <a:ext cx="396720" cy="397080"/>
            <a:chOff x="5784840" y="4565520"/>
            <a:chExt cx="396720" cy="39708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84840" y="4565520"/>
              <a:ext cx="3967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2840" y="378000"/>
            <a:ext cx="744480" cy="744480"/>
            <a:chOff x="1212840" y="378000"/>
            <a:chExt cx="744480" cy="7444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2840" y="37800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B724-0C1A-487F-84E6-0E1E6FF7F29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D80A-E8E9-40AA-9110-DAF7CE8CCF8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43920" y="5638680"/>
            <a:ext cx="768240" cy="768600"/>
            <a:chOff x="8143920" y="5638680"/>
            <a:chExt cx="768240" cy="76860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43920" y="5638680"/>
              <a:ext cx="7682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37480" y="5205240"/>
            <a:ext cx="397080" cy="397080"/>
            <a:chOff x="8637480" y="5205240"/>
            <a:chExt cx="397080" cy="39708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37480" y="520524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1160" y="5638680"/>
            <a:ext cx="841320" cy="841320"/>
            <a:chOff x="281160" y="5638680"/>
            <a:chExt cx="841320" cy="8413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563868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AD75-ED8E-4179-9B04-81DC0B75B2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DEB2-7805-44E1-B93B-BB172AE8BE6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dt" idx="3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ftr" idx="3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9DC9-93AF-4F7A-AF74-333B9E61E00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3000" y="665280"/>
            <a:ext cx="768240" cy="766800"/>
            <a:chOff x="8163000" y="665280"/>
            <a:chExt cx="768240" cy="76680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3000" y="665280"/>
              <a:ext cx="7682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75720" y="1347840"/>
            <a:ext cx="396720" cy="395280"/>
            <a:chOff x="7875720" y="1347840"/>
            <a:chExt cx="396720" cy="39528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75720" y="134784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EB22-6D03-4B67-B961-D6344EDAF35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58240" y="3846600"/>
            <a:ext cx="774720" cy="768240"/>
            <a:chOff x="8058240" y="3846600"/>
            <a:chExt cx="774720" cy="7682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58240" y="384660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85000" y="4529160"/>
            <a:ext cx="395280" cy="396720"/>
            <a:chOff x="7785000" y="4529160"/>
            <a:chExt cx="395280" cy="3967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85000" y="4529160"/>
              <a:ext cx="395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298440" y="3833640"/>
            <a:ext cx="1006560" cy="1013040"/>
            <a:chOff x="298440" y="3833640"/>
            <a:chExt cx="1006560" cy="101304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298440" y="3833640"/>
              <a:ext cx="10065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B0CC-551F-4D7C-ADD0-881E9BB7F32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08800" y="96840"/>
            <a:ext cx="622440" cy="622440"/>
            <a:chOff x="8308800" y="96840"/>
            <a:chExt cx="622440" cy="62244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08800" y="96840"/>
              <a:ext cx="622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59640" y="171360"/>
            <a:ext cx="378000" cy="378000"/>
            <a:chOff x="7559640" y="171360"/>
            <a:chExt cx="378000" cy="37800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59640" y="17136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08080" y="927000"/>
            <a:ext cx="1004760" cy="1011240"/>
            <a:chOff x="208080" y="927000"/>
            <a:chExt cx="1004760" cy="10112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9270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097F-B826-43A4-85A9-5F606F08E2A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3120" y="1000080"/>
            <a:ext cx="628920" cy="627120"/>
            <a:chOff x="8223120" y="1000080"/>
            <a:chExt cx="628920" cy="62712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3120" y="1000080"/>
              <a:ext cx="6289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3200" y="963720"/>
            <a:ext cx="396720" cy="395280"/>
            <a:chOff x="7693200" y="963720"/>
            <a:chExt cx="396720" cy="3952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3200" y="96372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A43C-DE76-4955-855B-4761F8D2276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45B3-7A66-4D02-B35D-2E6915410BA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0"/>
              <a:ext cx="9150480" cy="128124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360" cy="109404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C048-6E83-4D7C-B05D-7EE3064602B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7200"/>
            <a:ext cx="1104840" cy="6891840"/>
            <a:chOff x="0" y="-7200"/>
            <a:chExt cx="1104840" cy="689184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90800" y="2885400"/>
              <a:ext cx="6888600" cy="110340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92240" y="2909160"/>
              <a:ext cx="6867720" cy="108288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2287-8E41-4D14-84CD-AFD2E701AB4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7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hyperlink" Target="file:///&#1086;&#1089;&#1090;&#1088;&#1086;&#1074;%20&#1061;&#1091;&#1076;&#1086;&#1078;&#1085;&#1080;&#1082;&#1086;&#1074;.pptx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4179600" y="1599840"/>
            <a:ext cx="4964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ЛОМОНОСО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ихаил Васильевич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одился 8(19).11.1711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деревне Мишанинская Куростровской волости Двинского уезда Архангельской губерни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3" name="Rectangle 2" descr=""/>
          <p:cNvPicPr/>
          <p:nvPr/>
        </p:nvPicPr>
        <p:blipFill>
          <a:blip r:embed="rId1"/>
          <a:stretch/>
        </p:blipFill>
        <p:spPr>
          <a:xfrm>
            <a:off x="603360" y="615960"/>
            <a:ext cx="8339040" cy="11160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lomonosov"/>
          <p:cNvPicPr/>
          <p:nvPr/>
        </p:nvPicPr>
        <p:blipFill>
          <a:blip r:embed="rId2"/>
          <a:stretch/>
        </p:blipFill>
        <p:spPr>
          <a:xfrm>
            <a:off x="250920" y="836640"/>
            <a:ext cx="3871800" cy="518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-360" y="1428840"/>
            <a:ext cx="50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тинным поэтом Ломоносов был в тех случаях , когда в стихах касался “любезного отечества”. В его торжественных одах прослеживаются темы Родины, науки и ми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омоносов является преобразователем литературного языка и стиха. Важнейшими трудами этого рода Ломоносова были : “Российская грамматика”, “Рассуждение о пользе книги церковной в российском языке” и “Письмо о правилах российского стихотворства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4" name="Заголовок 2" descr=""/>
          <p:cNvPicPr/>
          <p:nvPr/>
        </p:nvPicPr>
        <p:blipFill>
          <a:blip r:embed="rId1"/>
          <a:stretch/>
        </p:blipFill>
        <p:spPr>
          <a:xfrm>
            <a:off x="450720" y="-152280"/>
            <a:ext cx="8242560" cy="1358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2" descr="F:\информатика\мероприятие\портрет\129183_image_large.jpg"/>
          <p:cNvPicPr/>
          <p:nvPr/>
        </p:nvPicPr>
        <p:blipFill>
          <a:blip r:embed="rId2"/>
          <a:stretch/>
        </p:blipFill>
        <p:spPr>
          <a:xfrm>
            <a:off x="5229360" y="1143000"/>
            <a:ext cx="391464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4" descr="F:\информатика\мероприятие\Без им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87" name="Заголовок 2" descr=""/>
          <p:cNvPicPr/>
          <p:nvPr/>
        </p:nvPicPr>
        <p:blipFill>
          <a:blip r:embed="rId2"/>
          <a:stretch/>
        </p:blipFill>
        <p:spPr>
          <a:xfrm>
            <a:off x="493560" y="208080"/>
            <a:ext cx="8242560" cy="115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3" descr="F:\информатика\мероприятие\остров\green-island-wallpaper.jpg"/>
          <p:cNvPicPr/>
          <p:nvPr/>
        </p:nvPicPr>
        <p:blipFill>
          <a:blip r:embed="rId1"/>
          <a:srcRect l="0" t="0" r="2098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457200" y="18018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0" name="Рисунок 9" descr=""/>
          <p:cNvPicPr/>
          <p:nvPr/>
        </p:nvPicPr>
        <p:blipFill>
          <a:blip r:embed="rId3"/>
          <a:srcRect l="28219" t="24656" r="43721" b="41070"/>
          <a:stretch/>
        </p:blipFill>
        <p:spPr>
          <a:xfrm>
            <a:off x="1143000" y="428760"/>
            <a:ext cx="6357960" cy="621324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2"/>
          <p:cNvSpPr/>
          <p:nvPr/>
        </p:nvSpPr>
        <p:spPr>
          <a:xfrm>
            <a:off x="307800" y="5916600"/>
            <a:ext cx="27648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AutoShape 4"/>
          <p:cNvCxnSpPr/>
          <p:nvPr/>
        </p:nvCxnSpPr>
        <p:spPr>
          <a:xfrm flipV="1">
            <a:off x="3374640" y="5078160"/>
            <a:ext cx="1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3" name="AutoShape 9"/>
          <p:cNvCxnSpPr/>
          <p:nvPr/>
        </p:nvCxnSpPr>
        <p:spPr>
          <a:xfrm flipH="1" flipV="1">
            <a:off x="2346480" y="3296880"/>
            <a:ext cx="514440" cy="18201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94" name="AutoShape 10"/>
          <p:cNvCxnSpPr/>
          <p:nvPr/>
        </p:nvCxnSpPr>
        <p:spPr>
          <a:xfrm>
            <a:off x="2869920" y="5116320"/>
            <a:ext cx="127656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95" name="AutoShape 11"/>
          <p:cNvCxnSpPr/>
          <p:nvPr/>
        </p:nvCxnSpPr>
        <p:spPr>
          <a:xfrm flipV="1">
            <a:off x="4146120" y="5115960"/>
            <a:ext cx="125820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96" name="AutoShape 16"/>
          <p:cNvCxnSpPr/>
          <p:nvPr/>
        </p:nvCxnSpPr>
        <p:spPr>
          <a:xfrm flipV="1">
            <a:off x="5403960" y="3696480"/>
            <a:ext cx="496080" cy="1420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97" name="AutoShape 5"/>
          <p:cNvCxnSpPr/>
          <p:nvPr/>
        </p:nvCxnSpPr>
        <p:spPr>
          <a:xfrm>
            <a:off x="1793520" y="3020760"/>
            <a:ext cx="2096280" cy="1067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98" name="AutoShape 6"/>
          <p:cNvCxnSpPr/>
          <p:nvPr/>
        </p:nvCxnSpPr>
        <p:spPr>
          <a:xfrm flipV="1">
            <a:off x="3889080" y="3563640"/>
            <a:ext cx="2524680" cy="5241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99" name="AutoShape 7"/>
          <p:cNvCxnSpPr/>
          <p:nvPr/>
        </p:nvCxnSpPr>
        <p:spPr>
          <a:xfrm flipH="1" flipV="1">
            <a:off x="4393440" y="2020680"/>
            <a:ext cx="2019960" cy="15436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0" name="AutoShape 8"/>
          <p:cNvCxnSpPr/>
          <p:nvPr/>
        </p:nvCxnSpPr>
        <p:spPr>
          <a:xfrm flipH="1">
            <a:off x="1841040" y="2021040"/>
            <a:ext cx="2553120" cy="1000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1" name="AutoShape 12"/>
          <p:cNvCxnSpPr/>
          <p:nvPr/>
        </p:nvCxnSpPr>
        <p:spPr>
          <a:xfrm flipH="1">
            <a:off x="2088360" y="3297240"/>
            <a:ext cx="258120" cy="12866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2" name="AutoShape 13"/>
          <p:cNvCxnSpPr/>
          <p:nvPr/>
        </p:nvCxnSpPr>
        <p:spPr>
          <a:xfrm flipH="1">
            <a:off x="1841040" y="4583160"/>
            <a:ext cx="248400" cy="53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3" name="AutoShape 14"/>
          <p:cNvCxnSpPr/>
          <p:nvPr/>
        </p:nvCxnSpPr>
        <p:spPr>
          <a:xfrm>
            <a:off x="1841040" y="5116320"/>
            <a:ext cx="50580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4" name="AutoShape 15"/>
          <p:cNvCxnSpPr/>
          <p:nvPr/>
        </p:nvCxnSpPr>
        <p:spPr>
          <a:xfrm flipH="1" flipV="1">
            <a:off x="2088360" y="4582800"/>
            <a:ext cx="258120" cy="53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5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Рисунок 21" descr=""/>
          <p:cNvPicPr/>
          <p:nvPr/>
        </p:nvPicPr>
        <p:blipFill>
          <a:blip r:embed="rId4"/>
          <a:srcRect l="28219" t="24656" r="43721" b="41070"/>
          <a:stretch/>
        </p:blipFill>
        <p:spPr>
          <a:xfrm>
            <a:off x="1143000" y="285840"/>
            <a:ext cx="6715080" cy="6286320"/>
          </a:xfrm>
          <a:prstGeom prst="rect">
            <a:avLst/>
          </a:prstGeom>
          <a:ln w="0">
            <a:noFill/>
          </a:ln>
        </p:spPr>
      </p:pic>
      <p:pic>
        <p:nvPicPr>
          <p:cNvPr id="708" name="Заголовок 2" descr=""/>
          <p:cNvPicPr/>
          <p:nvPr/>
        </p:nvPicPr>
        <p:blipFill>
          <a:blip r:embed="rId5"/>
          <a:stretch/>
        </p:blipFill>
        <p:spPr>
          <a:xfrm>
            <a:off x="-6480" y="-237960"/>
            <a:ext cx="9163080" cy="14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4857840" y="1143000"/>
            <a:ext cx="428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ка понятия о химическом элемен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я первой в России химической лаборатор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0" name="Заголовок 2" descr=""/>
          <p:cNvPicPr/>
          <p:nvPr/>
        </p:nvPicPr>
        <p:blipFill>
          <a:blip r:embed="rId1"/>
          <a:stretch/>
        </p:blipFill>
        <p:spPr>
          <a:xfrm>
            <a:off x="360360" y="-79200"/>
            <a:ext cx="8618400" cy="12315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" descr="химич лаболатория"/>
          <p:cNvPicPr/>
          <p:nvPr/>
        </p:nvPicPr>
        <p:blipFill>
          <a:blip r:embed="rId2"/>
          <a:stretch/>
        </p:blipFill>
        <p:spPr>
          <a:xfrm>
            <a:off x="69840" y="1214280"/>
            <a:ext cx="4859280" cy="3346560"/>
          </a:xfrm>
          <a:prstGeom prst="rect">
            <a:avLst/>
          </a:prstGeom>
          <a:ln w="0">
            <a:noFill/>
          </a:ln>
        </p:spPr>
      </p:pic>
      <p:sp>
        <p:nvSpPr>
          <p:cNvPr id="712" name="Прямоугольник 4"/>
          <p:cNvSpPr/>
          <p:nvPr/>
        </p:nvSpPr>
        <p:spPr>
          <a:xfrm>
            <a:off x="285840" y="528624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новой области естествознания – физической хим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0" y="128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ория строения материи. Механическая теория тепло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боты в области электричества. «Теория электричества, разработанная математическим способом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4" name="Заголовок 2" descr=""/>
          <p:cNvPicPr/>
          <p:nvPr/>
        </p:nvPicPr>
        <p:blipFill>
          <a:blip r:embed="rId1"/>
          <a:stretch/>
        </p:blipFill>
        <p:spPr>
          <a:xfrm>
            <a:off x="450720" y="-152280"/>
            <a:ext cx="8375760" cy="13586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F:\информатика\мероприятие\яхта\1722140_%D0%E8%F1%F3%ED%EE%EA 1.jpg"/>
          <p:cNvPicPr/>
          <p:nvPr/>
        </p:nvPicPr>
        <p:blipFill>
          <a:blip r:embed="rId2"/>
          <a:stretch/>
        </p:blipFill>
        <p:spPr>
          <a:xfrm>
            <a:off x="3286080" y="3857760"/>
            <a:ext cx="2462400" cy="246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0" y="1213920"/>
            <a:ext cx="4857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боты по оптике (усовершенствование микроскопа и телескопа, создание новых мореходных и оптических приборов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ытие атмосферы на Венер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8" name="Picture 2" descr="F:\информатика\мероприятие\яхта\p24_sun-system.jpg"/>
          <p:cNvPicPr/>
          <p:nvPr/>
        </p:nvPicPr>
        <p:blipFill>
          <a:blip r:embed="rId1"/>
          <a:stretch/>
        </p:blipFill>
        <p:spPr>
          <a:xfrm>
            <a:off x="4857840" y="357120"/>
            <a:ext cx="3792600" cy="26053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F:\информатика\мероприятие\портрет\image003.jpg"/>
          <p:cNvPicPr/>
          <p:nvPr/>
        </p:nvPicPr>
        <p:blipFill>
          <a:blip r:embed="rId2"/>
          <a:stretch/>
        </p:blipFill>
        <p:spPr>
          <a:xfrm flipH="1" rot="251400">
            <a:off x="5486040" y="2811240"/>
            <a:ext cx="2768760" cy="360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F:\информатика\мероприятие\остров\1937.jpg"/>
          <p:cNvPicPr/>
          <p:nvPr/>
        </p:nvPicPr>
        <p:blipFill>
          <a:blip r:embed="rId1"/>
          <a:stretch/>
        </p:blipFill>
        <p:spPr>
          <a:xfrm>
            <a:off x="-1714680" y="-428760"/>
            <a:ext cx="11658960" cy="7286760"/>
          </a:xfrm>
          <a:prstGeom prst="rect">
            <a:avLst/>
          </a:prstGeom>
          <a:ln w="0">
            <a:noFill/>
          </a:ln>
        </p:spPr>
      </p:pic>
      <p:pic>
        <p:nvPicPr>
          <p:cNvPr id="721" name="Заголовок 2" descr=""/>
          <p:cNvPicPr/>
          <p:nvPr/>
        </p:nvPicPr>
        <p:blipFill>
          <a:blip r:embed="rId2"/>
          <a:stretch/>
        </p:blipFill>
        <p:spPr>
          <a:xfrm>
            <a:off x="450720" y="-237960"/>
            <a:ext cx="8242560" cy="14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5" descr="F:\информатика\мероприятие\яхта\путь.jpg"/>
          <p:cNvPicPr/>
          <p:nvPr/>
        </p:nvPicPr>
        <p:blipFill>
          <a:blip r:embed="rId1"/>
          <a:srcRect l="16669" t="14063" r="0" b="0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723" name="Прямоугольник 6" descr=""/>
          <p:cNvPicPr/>
          <p:nvPr/>
        </p:nvPicPr>
        <p:blipFill>
          <a:blip r:embed="rId2"/>
          <a:stretch/>
        </p:blipFill>
        <p:spPr>
          <a:xfrm>
            <a:off x="2567160" y="-390600"/>
            <a:ext cx="7600680" cy="359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5" descr="F:\информатика\мероприятие\яхта\путь.jpg"/>
          <p:cNvPicPr/>
          <p:nvPr/>
        </p:nvPicPr>
        <p:blipFill>
          <a:blip r:embed="rId1"/>
          <a:srcRect l="16669" t="14063" r="0" b="0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656" name="Прямоугольник 6" descr=""/>
          <p:cNvPicPr/>
          <p:nvPr/>
        </p:nvPicPr>
        <p:blipFill>
          <a:blip r:embed="rId2"/>
          <a:stretch/>
        </p:blipFill>
        <p:spPr>
          <a:xfrm>
            <a:off x="2567160" y="-390600"/>
            <a:ext cx="7600680" cy="3597480"/>
          </a:xfrm>
          <a:prstGeom prst="rect">
            <a:avLst/>
          </a:prstGeom>
          <a:ln w="0">
            <a:noFill/>
          </a:ln>
        </p:spPr>
      </p:pic>
      <p:sp>
        <p:nvSpPr>
          <p:cNvPr id="657" name="Прямоугольник 3"/>
          <p:cNvSpPr/>
          <p:nvPr/>
        </p:nvSpPr>
        <p:spPr>
          <a:xfrm>
            <a:off x="5072040" y="6858000"/>
            <a:ext cx="507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усыпный труд все препятствия преодоле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 В. 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98058E-006 L -0.11145 -0.91586 E">
                                      <p:cBhvr>
                                        <p:cTn id="11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5" descr="F:\информатика\мероприятие\остров\05050611334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 txBox="1"/>
          <p:nvPr/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0" name="Заголовок 2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G:\информатика\4\урок 12 Исполнитель алгоритмов Художник\4642223_hudoznik_kopij.jpg"/>
          <p:cNvPicPr/>
          <p:nvPr/>
        </p:nvPicPr>
        <p:blipFill>
          <a:blip r:embed="rId3"/>
          <a:stretch/>
        </p:blipFill>
        <p:spPr>
          <a:xfrm rot="1102800">
            <a:off x="3131640" y="2616120"/>
            <a:ext cx="5254920" cy="35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50920" y="1790640"/>
            <a:ext cx="50641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3" name="Rectangle 2" descr=""/>
          <p:cNvPicPr/>
          <p:nvPr/>
        </p:nvPicPr>
        <p:blipFill>
          <a:blip r:embed="rId1"/>
          <a:stretch/>
        </p:blipFill>
        <p:spPr>
          <a:xfrm>
            <a:off x="847800" y="-128520"/>
            <a:ext cx="8508960" cy="12556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ломоносов"/>
          <p:cNvPicPr/>
          <p:nvPr/>
        </p:nvPicPr>
        <p:blipFill>
          <a:blip r:embed="rId2"/>
          <a:stretch/>
        </p:blipFill>
        <p:spPr>
          <a:xfrm>
            <a:off x="179280" y="1557360"/>
            <a:ext cx="3897360" cy="482436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4572000" y="1700280"/>
            <a:ext cx="41767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луги Ломоносова широко известны , одна из н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 тайн античной мозаики, изготовление  смальт  (непрозрачное стекло) и изготовление из нее кусочков па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5" descr="F:\информатика\мероприятие\остров\05050611334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 txBox="1"/>
          <p:nvPr/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8" name="Заголовок 2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" descr="G:\информатика\4\урок 12 Исполнитель алгоритмов Художник\4642223_hudoznik_kopij.jpg">
            <a:hlinkClick r:id="rId3"/>
          </p:cNvPr>
          <p:cNvPicPr/>
          <p:nvPr/>
        </p:nvPicPr>
        <p:blipFill>
          <a:blip r:embed="rId4"/>
          <a:stretch/>
        </p:blipFill>
        <p:spPr>
          <a:xfrm rot="1102800">
            <a:off x="3131640" y="2616120"/>
            <a:ext cx="5254920" cy="35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857160" y="642960"/>
            <a:ext cx="7904160" cy="5964120"/>
          </a:xfrm>
          <a:prstGeom prst="rect">
            <a:avLst/>
          </a:prstGeom>
          <a:ln w="0">
            <a:noFill/>
          </a:ln>
        </p:spPr>
      </p:pic>
      <p:pic>
        <p:nvPicPr>
          <p:cNvPr id="671" name="Заголовок 2" descr=""/>
          <p:cNvPicPr/>
          <p:nvPr/>
        </p:nvPicPr>
        <p:blipFill>
          <a:blip r:embed="rId2"/>
          <a:stretch/>
        </p:blipFill>
        <p:spPr>
          <a:xfrm>
            <a:off x="566640" y="993600"/>
            <a:ext cx="8242560" cy="115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457200" y="18018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3" name="Заголовок 2" descr=""/>
          <p:cNvPicPr/>
          <p:nvPr/>
        </p:nvPicPr>
        <p:blipFill>
          <a:blip r:embed="rId2"/>
          <a:stretch/>
        </p:blipFill>
        <p:spPr>
          <a:xfrm>
            <a:off x="450720" y="-152280"/>
            <a:ext cx="8242560" cy="1358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5" descr=""/>
          <p:cNvPicPr/>
          <p:nvPr/>
        </p:nvPicPr>
        <p:blipFill>
          <a:blip r:embed="rId3"/>
          <a:srcRect l="26368" t="32226" r="22656" b="23098"/>
          <a:stretch/>
        </p:blipFill>
        <p:spPr>
          <a:xfrm>
            <a:off x="571680" y="1143000"/>
            <a:ext cx="7858080" cy="551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Прямоугольник 4"/>
          <p:cNvSpPr/>
          <p:nvPr/>
        </p:nvSpPr>
        <p:spPr>
          <a:xfrm>
            <a:off x="1714680" y="2286000"/>
            <a:ext cx="5643360" cy="2143080"/>
          </a:xfrm>
          <a:prstGeom prst="rect">
            <a:avLst/>
          </a:pr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71760" y="2857680"/>
            <a:ext cx="585792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ерзайте отчизну мужеством прославить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7" name="Заголовок 2" descr=""/>
          <p:cNvPicPr/>
          <p:nvPr/>
        </p:nvPicPr>
        <p:blipFill>
          <a:blip r:embed="rId1"/>
          <a:stretch/>
        </p:blipFill>
        <p:spPr>
          <a:xfrm>
            <a:off x="450720" y="-152280"/>
            <a:ext cx="8242560" cy="13586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"/>
          <p:cNvPicPr/>
          <p:nvPr/>
        </p:nvPicPr>
        <p:blipFill>
          <a:blip r:embed="rId2"/>
          <a:srcRect l="25783" t="44679" r="21484" b="15772"/>
          <a:stretch/>
        </p:blipFill>
        <p:spPr>
          <a:xfrm>
            <a:off x="142920" y="1428840"/>
            <a:ext cx="8858160" cy="531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F:\информатика\мероприятие\остров\green-island-wallpaper.jpg"/>
          <p:cNvPicPr/>
          <p:nvPr/>
        </p:nvPicPr>
        <p:blipFill>
          <a:blip r:embed="rId1"/>
          <a:srcRect l="0" t="0" r="2098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457200" y="18018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1" name="Вертикальный свиток 5"/>
          <p:cNvSpPr/>
          <p:nvPr/>
        </p:nvSpPr>
        <p:spPr>
          <a:xfrm flipH="1" rot="1437000">
            <a:off x="3894840" y="802800"/>
            <a:ext cx="5124600" cy="54964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ДА НА ДЕНЬ ВОСШЕСТВИЯ НА ВСЕРОССИЙСКИЙ ПРЕСТОЛ ЕЕ ВЕЛИЧЕСТВА ГОСУДАРЫНИ ИМПЕРАТРИЦЫ ЕЛИСАВЕТЫ ПЕТРОВНЫ 1747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 вы, которых ожид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ечество от недр сво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видеть таковых жел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их зовет от стран чужи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, ваши дни благословенн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рзайте ныне ободре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Заголовок 2" descr=""/>
          <p:cNvPicPr/>
          <p:nvPr/>
        </p:nvPicPr>
        <p:blipFill>
          <a:blip r:embed="rId3"/>
          <a:stretch/>
        </p:blipFill>
        <p:spPr>
          <a:xfrm>
            <a:off x="-139680" y="566640"/>
            <a:ext cx="5570640" cy="11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9:55:01Z</dcterms:created>
  <dc:creator>ольга</dc:creator>
  <dc:description/>
  <dc:language>en-US</dc:language>
  <cp:lastModifiedBy>lala</cp:lastModifiedBy>
  <dcterms:modified xsi:type="dcterms:W3CDTF">2011-01-27T20:46:19Z</dcterms:modified>
  <cp:revision>86</cp:revision>
  <dc:subject/>
  <dc:title>МОЗАИКА</dc:title>
</cp:coreProperties>
</file>