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5.jpeg" ContentType="image/jpeg"/>
  <Override PartName="/ppt/media/image24.png" ContentType="image/png"/>
  <Override PartName="/ppt/media/image2.jpeg" ContentType="image/jpeg"/>
  <Override PartName="/ppt/media/image23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2E8E-DB76-4280-BF32-0B2A607350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6B20-5D48-49C7-812B-41A28424B6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ЗА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9193-55CF-4BCC-B52E-B86364056A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евняя моза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0C7A-C4BD-40B6-B418-CA2BE872B7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заика из камня и стекла (смальт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EEF9-9C7D-4D41-B5CB-D0E7A99793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заика из яичной скорлу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9941-E16D-4072-9DDD-E60C288171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заика из бус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D9DA-A8B7-4671-AEF1-B462A76C99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заика из кафельной пли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C0A9-BB02-4C9A-8082-ED283EDA1B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рашение мозаикой ванной комнаты  фасада дома и дорож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C38C-9A5E-49AF-81F8-1AE403E77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7B37-32B9-471D-AC1E-3C949914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C067-01CE-4366-BBDA-B8CB4728B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8013-DC5C-48E0-9BB0-263BB897A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DE34-1B69-44AF-B61A-86D15FC4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B174-9BF5-4E03-A935-738BE429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AAEF-25D0-4BAB-9713-31B56425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3434-F325-41A4-9ED2-A88E65C2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1588-F128-4E25-8A46-64397628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C413-6D01-4A9A-8089-AC9F1FA3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6214-07CF-45FF-8E4F-B629ED27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B1D6-7AB5-4701-9818-CFDE0E23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9c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9CCC-BC13-4B9E-9578-6401582114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9143640" cy="1500120"/>
            <a:chOff x="0" y="0"/>
            <a:chExt cx="9143640" cy="1500120"/>
          </a:xfrm>
        </p:grpSpPr>
        <p:pic>
          <p:nvPicPr>
            <p:cNvPr id="49" name="Picture 3" descr="все о мозаике"/>
            <p:cNvPicPr/>
            <p:nvPr/>
          </p:nvPicPr>
          <p:blipFill>
            <a:blip r:embed="rId1"/>
            <a:stretch/>
          </p:blipFill>
          <p:spPr>
            <a:xfrm>
              <a:off x="3145320" y="0"/>
              <a:ext cx="3029040" cy="15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" descr="все о мозаике1"/>
            <p:cNvPicPr/>
            <p:nvPr/>
          </p:nvPicPr>
          <p:blipFill>
            <a:blip r:embed="rId2"/>
            <a:stretch/>
          </p:blipFill>
          <p:spPr>
            <a:xfrm>
              <a:off x="6107760" y="0"/>
              <a:ext cx="3035880" cy="148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5" descr="все о мозаике2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3259440" cy="149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Group 6"/>
          <p:cNvGrpSpPr/>
          <p:nvPr/>
        </p:nvGrpSpPr>
        <p:grpSpPr>
          <a:xfrm>
            <a:off x="7451640" y="5229360"/>
            <a:ext cx="1093680" cy="1224000"/>
            <a:chOff x="7451640" y="5229360"/>
            <a:chExt cx="1093680" cy="1224000"/>
          </a:xfrm>
        </p:grpSpPr>
        <p:sp>
          <p:nvSpPr>
            <p:cNvPr id="53" name="Puzzle3"/>
            <p:cNvSpPr/>
            <p:nvPr/>
          </p:nvSpPr>
          <p:spPr>
            <a:xfrm>
              <a:off x="7984440" y="5229360"/>
              <a:ext cx="429840" cy="650520"/>
            </a:xfrm>
            <a:custGeom>
              <a:avLst/>
              <a:gdLst>
                <a:gd name="textAreaLeft" fmla="*/ 45000 w 429840"/>
                <a:gd name="textAreaRight" fmla="*/ 381240 w 429840"/>
                <a:gd name="textAreaTop" fmla="*/ 232560 h 650520"/>
                <a:gd name="textAreaBottom" fmla="*/ 609480 h 65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Puzzle2"/>
            <p:cNvSpPr/>
            <p:nvPr/>
          </p:nvSpPr>
          <p:spPr>
            <a:xfrm>
              <a:off x="7859160" y="5703120"/>
              <a:ext cx="686160" cy="592200"/>
            </a:xfrm>
            <a:custGeom>
              <a:avLst/>
              <a:gdLst>
                <a:gd name="textAreaLeft" fmla="*/ 171360 w 686160"/>
                <a:gd name="textAreaRight" fmla="*/ 514080 w 686160"/>
                <a:gd name="textAreaTop" fmla="*/ 184680 h 592200"/>
                <a:gd name="textAreaBottom" fmla="*/ 560520 h 59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Puzzle4"/>
            <p:cNvSpPr/>
            <p:nvPr/>
          </p:nvSpPr>
          <p:spPr>
            <a:xfrm>
              <a:off x="7593480" y="5695920"/>
              <a:ext cx="413640" cy="757440"/>
            </a:xfrm>
            <a:custGeom>
              <a:avLst/>
              <a:gdLst>
                <a:gd name="textAreaLeft" fmla="*/ 39600 w 413640"/>
                <a:gd name="textAreaRight" fmla="*/ 387000 w 413640"/>
                <a:gd name="textAreaTop" fmla="*/ 198360 h 757440"/>
                <a:gd name="textAreaBottom" fmla="*/ 560160 h 75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Puzzle1"/>
            <p:cNvSpPr/>
            <p:nvPr/>
          </p:nvSpPr>
          <p:spPr>
            <a:xfrm>
              <a:off x="7451640" y="5425920"/>
              <a:ext cx="694800" cy="451440"/>
            </a:xfrm>
            <a:custGeom>
              <a:avLst/>
              <a:gdLst>
                <a:gd name="textAreaLeft" fmla="*/ 195480 w 694800"/>
                <a:gd name="textAreaRight" fmla="*/ 518760 w 694800"/>
                <a:gd name="textAreaTop" fmla="*/ 53640 h 451440"/>
                <a:gd name="textAreaBottom" fmla="*/ 408600 h 45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22"/>
          <p:cNvGrpSpPr/>
          <p:nvPr/>
        </p:nvGrpSpPr>
        <p:grpSpPr>
          <a:xfrm>
            <a:off x="14760" y="1589760"/>
            <a:ext cx="1401840" cy="1278000"/>
            <a:chOff x="14760" y="1589760"/>
            <a:chExt cx="1401840" cy="1278000"/>
          </a:xfrm>
        </p:grpSpPr>
        <p:sp>
          <p:nvSpPr>
            <p:cNvPr id="58" name="Puzzle3"/>
            <p:cNvSpPr/>
            <p:nvPr/>
          </p:nvSpPr>
          <p:spPr>
            <a:xfrm rot="918000">
              <a:off x="754200" y="1650240"/>
              <a:ext cx="551520" cy="688320"/>
            </a:xfrm>
            <a:custGeom>
              <a:avLst/>
              <a:gdLst>
                <a:gd name="textAreaLeft" fmla="*/ 57960 w 551520"/>
                <a:gd name="textAreaRight" fmla="*/ 489240 w 551520"/>
                <a:gd name="textAreaTop" fmla="*/ 245880 h 688320"/>
                <a:gd name="textAreaBottom" fmla="*/ 644760 h 68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Puzzle2"/>
            <p:cNvSpPr/>
            <p:nvPr/>
          </p:nvSpPr>
          <p:spPr>
            <a:xfrm rot="918000">
              <a:off x="469080" y="2135880"/>
              <a:ext cx="880200" cy="626760"/>
            </a:xfrm>
            <a:custGeom>
              <a:avLst/>
              <a:gdLst>
                <a:gd name="textAreaLeft" fmla="*/ 219600 w 880200"/>
                <a:gd name="textAreaRight" fmla="*/ 659520 w 880200"/>
                <a:gd name="textAreaTop" fmla="*/ 195480 h 626760"/>
                <a:gd name="textAreaBottom" fmla="*/ 593280 h 62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Puzzle4"/>
            <p:cNvSpPr/>
            <p:nvPr/>
          </p:nvSpPr>
          <p:spPr>
            <a:xfrm rot="918000">
              <a:off x="126000" y="1989360"/>
              <a:ext cx="530640" cy="801360"/>
            </a:xfrm>
            <a:custGeom>
              <a:avLst/>
              <a:gdLst>
                <a:gd name="textAreaLeft" fmla="*/ 50760 w 530640"/>
                <a:gd name="textAreaRight" fmla="*/ 496800 w 530640"/>
                <a:gd name="textAreaTop" fmla="*/ 209880 h 801360"/>
                <a:gd name="textAreaBottom" fmla="*/ 592920 h 80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Puzzle1"/>
            <p:cNvSpPr/>
            <p:nvPr/>
          </p:nvSpPr>
          <p:spPr>
            <a:xfrm rot="918000">
              <a:off x="61920" y="1719360"/>
              <a:ext cx="891360" cy="477720"/>
            </a:xfrm>
            <a:custGeom>
              <a:avLst/>
              <a:gdLst>
                <a:gd name="textAreaLeft" fmla="*/ 250920 w 891360"/>
                <a:gd name="textAreaRight" fmla="*/ 665640 w 891360"/>
                <a:gd name="textAreaTop" fmla="*/ 56520 h 477720"/>
                <a:gd name="textAreaBottom" fmla="*/ 432360 h 47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Прямоугольник 16" descr=""/>
          <p:cNvPicPr/>
          <p:nvPr/>
        </p:nvPicPr>
        <p:blipFill>
          <a:blip r:embed="rId4"/>
          <a:stretch/>
        </p:blipFill>
        <p:spPr>
          <a:xfrm>
            <a:off x="1352520" y="3114720"/>
            <a:ext cx="6797880" cy="149364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22"/>
          <p:cNvGrpSpPr/>
          <p:nvPr/>
        </p:nvGrpSpPr>
        <p:grpSpPr>
          <a:xfrm>
            <a:off x="1386360" y="1990080"/>
            <a:ext cx="1646280" cy="1595880"/>
            <a:chOff x="1386360" y="1990080"/>
            <a:chExt cx="1646280" cy="1595880"/>
          </a:xfrm>
        </p:grpSpPr>
        <p:sp>
          <p:nvSpPr>
            <p:cNvPr id="64" name="Puzzle3"/>
            <p:cNvSpPr/>
            <p:nvPr/>
          </p:nvSpPr>
          <p:spPr>
            <a:xfrm rot="20272200">
              <a:off x="2049840" y="2068560"/>
              <a:ext cx="551520" cy="688320"/>
            </a:xfrm>
            <a:custGeom>
              <a:avLst/>
              <a:gdLst>
                <a:gd name="textAreaLeft" fmla="*/ 57960 w 551520"/>
                <a:gd name="textAreaRight" fmla="*/ 489240 w 551520"/>
                <a:gd name="textAreaTop" fmla="*/ 245880 h 688320"/>
                <a:gd name="textAreaBottom" fmla="*/ 644760 h 68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Puzzle2"/>
            <p:cNvSpPr/>
            <p:nvPr/>
          </p:nvSpPr>
          <p:spPr>
            <a:xfrm rot="20272200">
              <a:off x="2066400" y="2533680"/>
              <a:ext cx="880200" cy="626760"/>
            </a:xfrm>
            <a:custGeom>
              <a:avLst/>
              <a:gdLst>
                <a:gd name="textAreaLeft" fmla="*/ 219600 w 880200"/>
                <a:gd name="textAreaRight" fmla="*/ 659520 w 880200"/>
                <a:gd name="textAreaTop" fmla="*/ 195480 h 626760"/>
                <a:gd name="textAreaBottom" fmla="*/ 593280 h 62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Puzzle4"/>
            <p:cNvSpPr/>
            <p:nvPr/>
          </p:nvSpPr>
          <p:spPr>
            <a:xfrm rot="20272200">
              <a:off x="1793520" y="2714040"/>
              <a:ext cx="530640" cy="801360"/>
            </a:xfrm>
            <a:custGeom>
              <a:avLst/>
              <a:gdLst>
                <a:gd name="textAreaLeft" fmla="*/ 50760 w 530640"/>
                <a:gd name="textAreaRight" fmla="*/ 496800 w 530640"/>
                <a:gd name="textAreaTop" fmla="*/ 209880 h 801360"/>
                <a:gd name="textAreaBottom" fmla="*/ 592920 h 80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Puzzle1"/>
            <p:cNvSpPr/>
            <p:nvPr/>
          </p:nvSpPr>
          <p:spPr>
            <a:xfrm rot="20272200">
              <a:off x="1443240" y="2462040"/>
              <a:ext cx="891360" cy="477720"/>
            </a:xfrm>
            <a:custGeom>
              <a:avLst/>
              <a:gdLst>
                <a:gd name="textAreaLeft" fmla="*/ 250920 w 891360"/>
                <a:gd name="textAreaRight" fmla="*/ 665640 w 891360"/>
                <a:gd name="textAreaTop" fmla="*/ 56520 h 477720"/>
                <a:gd name="textAreaBottom" fmla="*/ 432360 h 47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22"/>
          <p:cNvGrpSpPr/>
          <p:nvPr/>
        </p:nvGrpSpPr>
        <p:grpSpPr>
          <a:xfrm>
            <a:off x="3467520" y="1483560"/>
            <a:ext cx="1667880" cy="1674000"/>
            <a:chOff x="3467520" y="1483560"/>
            <a:chExt cx="1667880" cy="1674000"/>
          </a:xfrm>
        </p:grpSpPr>
        <p:sp>
          <p:nvSpPr>
            <p:cNvPr id="69" name="Puzzle3"/>
            <p:cNvSpPr/>
            <p:nvPr/>
          </p:nvSpPr>
          <p:spPr>
            <a:xfrm rot="3175200">
              <a:off x="4418640" y="1986480"/>
              <a:ext cx="551520" cy="688320"/>
            </a:xfrm>
            <a:custGeom>
              <a:avLst/>
              <a:gdLst>
                <a:gd name="textAreaLeft" fmla="*/ 57960 w 551520"/>
                <a:gd name="textAreaRight" fmla="*/ 489240 w 551520"/>
                <a:gd name="textAreaTop" fmla="*/ 245880 h 688320"/>
                <a:gd name="textAreaBottom" fmla="*/ 644760 h 68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Puzzle2"/>
            <p:cNvSpPr/>
            <p:nvPr/>
          </p:nvSpPr>
          <p:spPr>
            <a:xfrm rot="3175200">
              <a:off x="3881160" y="2304000"/>
              <a:ext cx="880200" cy="626760"/>
            </a:xfrm>
            <a:custGeom>
              <a:avLst/>
              <a:gdLst>
                <a:gd name="textAreaLeft" fmla="*/ 219600 w 880200"/>
                <a:gd name="textAreaRight" fmla="*/ 659520 w 880200"/>
                <a:gd name="textAreaTop" fmla="*/ 195480 h 626760"/>
                <a:gd name="textAreaBottom" fmla="*/ 593280 h 62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Puzzle4"/>
            <p:cNvSpPr/>
            <p:nvPr/>
          </p:nvSpPr>
          <p:spPr>
            <a:xfrm rot="3175200">
              <a:off x="3681720" y="1853640"/>
              <a:ext cx="530640" cy="801360"/>
            </a:xfrm>
            <a:custGeom>
              <a:avLst/>
              <a:gdLst>
                <a:gd name="textAreaLeft" fmla="*/ 50760 w 530640"/>
                <a:gd name="textAreaRight" fmla="*/ 496800 w 530640"/>
                <a:gd name="textAreaTop" fmla="*/ 209880 h 801360"/>
                <a:gd name="textAreaBottom" fmla="*/ 592920 h 80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Puzzle1"/>
            <p:cNvSpPr/>
            <p:nvPr/>
          </p:nvSpPr>
          <p:spPr>
            <a:xfrm rot="3175200">
              <a:off x="3857400" y="1744200"/>
              <a:ext cx="891360" cy="477720"/>
            </a:xfrm>
            <a:custGeom>
              <a:avLst/>
              <a:gdLst>
                <a:gd name="textAreaLeft" fmla="*/ 250920 w 891360"/>
                <a:gd name="textAreaRight" fmla="*/ 665640 w 891360"/>
                <a:gd name="textAreaTop" fmla="*/ 56520 h 477720"/>
                <a:gd name="textAreaBottom" fmla="*/ 432360 h 47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2"/>
          <p:cNvGrpSpPr/>
          <p:nvPr/>
        </p:nvGrpSpPr>
        <p:grpSpPr>
          <a:xfrm>
            <a:off x="285840" y="3214800"/>
            <a:ext cx="1402920" cy="1294920"/>
            <a:chOff x="285840" y="3214800"/>
            <a:chExt cx="1402920" cy="1294920"/>
          </a:xfrm>
        </p:grpSpPr>
        <p:sp>
          <p:nvSpPr>
            <p:cNvPr id="74" name="Puzzle3"/>
            <p:cNvSpPr/>
            <p:nvPr/>
          </p:nvSpPr>
          <p:spPr>
            <a:xfrm>
              <a:off x="969120" y="3214800"/>
              <a:ext cx="551520" cy="688320"/>
            </a:xfrm>
            <a:custGeom>
              <a:avLst/>
              <a:gdLst>
                <a:gd name="textAreaLeft" fmla="*/ 57960 w 551520"/>
                <a:gd name="textAreaRight" fmla="*/ 489240 w 551520"/>
                <a:gd name="textAreaTop" fmla="*/ 245880 h 688320"/>
                <a:gd name="textAreaBottom" fmla="*/ 644760 h 68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Puzzle2"/>
            <p:cNvSpPr/>
            <p:nvPr/>
          </p:nvSpPr>
          <p:spPr>
            <a:xfrm>
              <a:off x="808560" y="3716280"/>
              <a:ext cx="880200" cy="626760"/>
            </a:xfrm>
            <a:custGeom>
              <a:avLst/>
              <a:gdLst>
                <a:gd name="textAreaLeft" fmla="*/ 219600 w 880200"/>
                <a:gd name="textAreaRight" fmla="*/ 659520 w 880200"/>
                <a:gd name="textAreaTop" fmla="*/ 195480 h 626760"/>
                <a:gd name="textAreaBottom" fmla="*/ 593280 h 62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Puzzle4"/>
            <p:cNvSpPr/>
            <p:nvPr/>
          </p:nvSpPr>
          <p:spPr>
            <a:xfrm>
              <a:off x="468000" y="3708360"/>
              <a:ext cx="530640" cy="801360"/>
            </a:xfrm>
            <a:custGeom>
              <a:avLst/>
              <a:gdLst>
                <a:gd name="textAreaLeft" fmla="*/ 50760 w 530640"/>
                <a:gd name="textAreaRight" fmla="*/ 496800 w 530640"/>
                <a:gd name="textAreaTop" fmla="*/ 209880 h 801360"/>
                <a:gd name="textAreaBottom" fmla="*/ 592920 h 80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Puzzle1"/>
            <p:cNvSpPr/>
            <p:nvPr/>
          </p:nvSpPr>
          <p:spPr>
            <a:xfrm>
              <a:off x="285840" y="3422880"/>
              <a:ext cx="891360" cy="477720"/>
            </a:xfrm>
            <a:custGeom>
              <a:avLst/>
              <a:gdLst>
                <a:gd name="textAreaLeft" fmla="*/ 250920 w 891360"/>
                <a:gd name="textAreaRight" fmla="*/ 665640 w 891360"/>
                <a:gd name="textAreaTop" fmla="*/ 56520 h 477720"/>
                <a:gd name="textAreaBottom" fmla="*/ 432360 h 47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22"/>
          <p:cNvGrpSpPr/>
          <p:nvPr/>
        </p:nvGrpSpPr>
        <p:grpSpPr>
          <a:xfrm>
            <a:off x="124920" y="4742640"/>
            <a:ext cx="1592640" cy="1521720"/>
            <a:chOff x="124920" y="4742640"/>
            <a:chExt cx="1592640" cy="1521720"/>
          </a:xfrm>
        </p:grpSpPr>
        <p:sp>
          <p:nvSpPr>
            <p:cNvPr id="79" name="Puzzle3"/>
            <p:cNvSpPr/>
            <p:nvPr/>
          </p:nvSpPr>
          <p:spPr>
            <a:xfrm rot="20707200">
              <a:off x="811080" y="4801680"/>
              <a:ext cx="551520" cy="688320"/>
            </a:xfrm>
            <a:custGeom>
              <a:avLst/>
              <a:gdLst>
                <a:gd name="textAreaLeft" fmla="*/ 57960 w 551520"/>
                <a:gd name="textAreaRight" fmla="*/ 489240 w 551520"/>
                <a:gd name="textAreaTop" fmla="*/ 245880 h 688320"/>
                <a:gd name="textAreaBottom" fmla="*/ 644760 h 68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Puzzle2"/>
            <p:cNvSpPr/>
            <p:nvPr/>
          </p:nvSpPr>
          <p:spPr>
            <a:xfrm rot="20707200">
              <a:off x="771120" y="5286240"/>
              <a:ext cx="880560" cy="626760"/>
            </a:xfrm>
            <a:custGeom>
              <a:avLst/>
              <a:gdLst>
                <a:gd name="textAreaLeft" fmla="*/ 219960 w 880560"/>
                <a:gd name="textAreaRight" fmla="*/ 659880 w 880560"/>
                <a:gd name="textAreaTop" fmla="*/ 195480 h 626760"/>
                <a:gd name="textAreaBottom" fmla="*/ 593280 h 62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Puzzle4"/>
            <p:cNvSpPr/>
            <p:nvPr/>
          </p:nvSpPr>
          <p:spPr>
            <a:xfrm rot="20707200">
              <a:off x="468000" y="5408280"/>
              <a:ext cx="531000" cy="801360"/>
            </a:xfrm>
            <a:custGeom>
              <a:avLst/>
              <a:gdLst>
                <a:gd name="textAreaLeft" fmla="*/ 50760 w 531000"/>
                <a:gd name="textAreaRight" fmla="*/ 497160 w 531000"/>
                <a:gd name="textAreaTop" fmla="*/ 209880 h 801360"/>
                <a:gd name="textAreaBottom" fmla="*/ 592920 h 80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Puzzle1"/>
            <p:cNvSpPr/>
            <p:nvPr/>
          </p:nvSpPr>
          <p:spPr>
            <a:xfrm rot="20707200">
              <a:off x="171000" y="5137920"/>
              <a:ext cx="891720" cy="477720"/>
            </a:xfrm>
            <a:custGeom>
              <a:avLst/>
              <a:gdLst>
                <a:gd name="textAreaLeft" fmla="*/ 250920 w 891720"/>
                <a:gd name="textAreaRight" fmla="*/ 666000 w 891720"/>
                <a:gd name="textAreaTop" fmla="*/ 56520 h 477720"/>
                <a:gd name="textAreaBottom" fmla="*/ 432360 h 47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22"/>
          <p:cNvGrpSpPr/>
          <p:nvPr/>
        </p:nvGrpSpPr>
        <p:grpSpPr>
          <a:xfrm>
            <a:off x="7376760" y="1397880"/>
            <a:ext cx="1670400" cy="1636560"/>
            <a:chOff x="7376760" y="1397880"/>
            <a:chExt cx="1670400" cy="1636560"/>
          </a:xfrm>
        </p:grpSpPr>
        <p:sp>
          <p:nvSpPr>
            <p:cNvPr id="84" name="Puzzle3"/>
            <p:cNvSpPr/>
            <p:nvPr/>
          </p:nvSpPr>
          <p:spPr>
            <a:xfrm rot="19930800">
              <a:off x="8012520" y="1486800"/>
              <a:ext cx="551520" cy="688320"/>
            </a:xfrm>
            <a:custGeom>
              <a:avLst/>
              <a:gdLst>
                <a:gd name="textAreaLeft" fmla="*/ 57960 w 551520"/>
                <a:gd name="textAreaRight" fmla="*/ 489240 w 551520"/>
                <a:gd name="textAreaTop" fmla="*/ 245880 h 688320"/>
                <a:gd name="textAreaBottom" fmla="*/ 644760 h 68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Puzzle2"/>
            <p:cNvSpPr/>
            <p:nvPr/>
          </p:nvSpPr>
          <p:spPr>
            <a:xfrm rot="19930800">
              <a:off x="8071200" y="1931760"/>
              <a:ext cx="880200" cy="626760"/>
            </a:xfrm>
            <a:custGeom>
              <a:avLst/>
              <a:gdLst>
                <a:gd name="textAreaLeft" fmla="*/ 219600 w 880200"/>
                <a:gd name="textAreaRight" fmla="*/ 659520 w 880200"/>
                <a:gd name="textAreaTop" fmla="*/ 195480 h 626760"/>
                <a:gd name="textAreaBottom" fmla="*/ 593280 h 62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Puzzle4"/>
            <p:cNvSpPr/>
            <p:nvPr/>
          </p:nvSpPr>
          <p:spPr>
            <a:xfrm rot="19930800">
              <a:off x="7827480" y="2155320"/>
              <a:ext cx="530640" cy="801360"/>
            </a:xfrm>
            <a:custGeom>
              <a:avLst/>
              <a:gdLst>
                <a:gd name="textAreaLeft" fmla="*/ 50760 w 530640"/>
                <a:gd name="textAreaRight" fmla="*/ 496800 w 530640"/>
                <a:gd name="textAreaTop" fmla="*/ 209880 h 801360"/>
                <a:gd name="textAreaBottom" fmla="*/ 592920 h 80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Puzzle1"/>
            <p:cNvSpPr/>
            <p:nvPr/>
          </p:nvSpPr>
          <p:spPr>
            <a:xfrm rot="19930800">
              <a:off x="7436520" y="1922400"/>
              <a:ext cx="891360" cy="477720"/>
            </a:xfrm>
            <a:custGeom>
              <a:avLst/>
              <a:gdLst>
                <a:gd name="textAreaLeft" fmla="*/ 250920 w 891360"/>
                <a:gd name="textAreaRight" fmla="*/ 665640 w 891360"/>
                <a:gd name="textAreaTop" fmla="*/ 56520 h 477720"/>
                <a:gd name="textAreaBottom" fmla="*/ 432360 h 47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22"/>
          <p:cNvGrpSpPr/>
          <p:nvPr/>
        </p:nvGrpSpPr>
        <p:grpSpPr>
          <a:xfrm>
            <a:off x="5643720" y="1643040"/>
            <a:ext cx="1402920" cy="1294920"/>
            <a:chOff x="5643720" y="1643040"/>
            <a:chExt cx="1402920" cy="1294920"/>
          </a:xfrm>
        </p:grpSpPr>
        <p:sp>
          <p:nvSpPr>
            <p:cNvPr id="89" name="Puzzle3"/>
            <p:cNvSpPr/>
            <p:nvPr/>
          </p:nvSpPr>
          <p:spPr>
            <a:xfrm>
              <a:off x="6327000" y="1643040"/>
              <a:ext cx="551520" cy="688320"/>
            </a:xfrm>
            <a:custGeom>
              <a:avLst/>
              <a:gdLst>
                <a:gd name="textAreaLeft" fmla="*/ 57960 w 551520"/>
                <a:gd name="textAreaRight" fmla="*/ 489240 w 551520"/>
                <a:gd name="textAreaTop" fmla="*/ 245880 h 688320"/>
                <a:gd name="textAreaBottom" fmla="*/ 644760 h 68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Puzzle2"/>
            <p:cNvSpPr/>
            <p:nvPr/>
          </p:nvSpPr>
          <p:spPr>
            <a:xfrm>
              <a:off x="6166440" y="2144520"/>
              <a:ext cx="880200" cy="626760"/>
            </a:xfrm>
            <a:custGeom>
              <a:avLst/>
              <a:gdLst>
                <a:gd name="textAreaLeft" fmla="*/ 219600 w 880200"/>
                <a:gd name="textAreaRight" fmla="*/ 659520 w 880200"/>
                <a:gd name="textAreaTop" fmla="*/ 195480 h 626760"/>
                <a:gd name="textAreaBottom" fmla="*/ 593280 h 62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Puzzle4"/>
            <p:cNvSpPr/>
            <p:nvPr/>
          </p:nvSpPr>
          <p:spPr>
            <a:xfrm>
              <a:off x="5825880" y="2136600"/>
              <a:ext cx="530640" cy="801360"/>
            </a:xfrm>
            <a:custGeom>
              <a:avLst/>
              <a:gdLst>
                <a:gd name="textAreaLeft" fmla="*/ 50760 w 530640"/>
                <a:gd name="textAreaRight" fmla="*/ 496800 w 530640"/>
                <a:gd name="textAreaTop" fmla="*/ 209880 h 801360"/>
                <a:gd name="textAreaBottom" fmla="*/ 592920 h 80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Puzzle1"/>
            <p:cNvSpPr/>
            <p:nvPr/>
          </p:nvSpPr>
          <p:spPr>
            <a:xfrm>
              <a:off x="5643720" y="1851120"/>
              <a:ext cx="891360" cy="477720"/>
            </a:xfrm>
            <a:custGeom>
              <a:avLst/>
              <a:gdLst>
                <a:gd name="textAreaLeft" fmla="*/ 250920 w 891360"/>
                <a:gd name="textAreaRight" fmla="*/ 665640 w 891360"/>
                <a:gd name="textAreaTop" fmla="*/ 56520 h 477720"/>
                <a:gd name="textAreaBottom" fmla="*/ 432360 h 47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22"/>
          <p:cNvGrpSpPr/>
          <p:nvPr/>
        </p:nvGrpSpPr>
        <p:grpSpPr>
          <a:xfrm>
            <a:off x="1868400" y="5213520"/>
            <a:ext cx="1556280" cy="1510200"/>
            <a:chOff x="1868400" y="5213520"/>
            <a:chExt cx="1556280" cy="1510200"/>
          </a:xfrm>
        </p:grpSpPr>
        <p:sp>
          <p:nvSpPr>
            <p:cNvPr id="94" name="Puzzle3"/>
            <p:cNvSpPr/>
            <p:nvPr/>
          </p:nvSpPr>
          <p:spPr>
            <a:xfrm rot="21090600">
              <a:off x="2574360" y="5250600"/>
              <a:ext cx="561600" cy="726480"/>
            </a:xfrm>
            <a:custGeom>
              <a:avLst/>
              <a:gdLst>
                <a:gd name="textAreaLeft" fmla="*/ 58680 w 561600"/>
                <a:gd name="textAreaRight" fmla="*/ 498240 w 561600"/>
                <a:gd name="textAreaTop" fmla="*/ 259560 h 726480"/>
                <a:gd name="textAreaBottom" fmla="*/ 680400 h 72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Puzzle2"/>
            <p:cNvSpPr/>
            <p:nvPr/>
          </p:nvSpPr>
          <p:spPr>
            <a:xfrm rot="21090600">
              <a:off x="2484360" y="5774040"/>
              <a:ext cx="896400" cy="661680"/>
            </a:xfrm>
            <a:custGeom>
              <a:avLst/>
              <a:gdLst>
                <a:gd name="textAreaLeft" fmla="*/ 223920 w 896400"/>
                <a:gd name="textAreaRight" fmla="*/ 671760 w 896400"/>
                <a:gd name="textAreaTop" fmla="*/ 206280 h 661680"/>
                <a:gd name="textAreaBottom" fmla="*/ 626400 h 66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Puzzle4"/>
            <p:cNvSpPr/>
            <p:nvPr/>
          </p:nvSpPr>
          <p:spPr>
            <a:xfrm rot="21090600">
              <a:off x="2155680" y="5842440"/>
              <a:ext cx="540360" cy="846000"/>
            </a:xfrm>
            <a:custGeom>
              <a:avLst/>
              <a:gdLst>
                <a:gd name="textAreaLeft" fmla="*/ 51840 w 540360"/>
                <a:gd name="textAreaRight" fmla="*/ 505800 w 540360"/>
                <a:gd name="textAreaTop" fmla="*/ 221760 h 846000"/>
                <a:gd name="textAreaBottom" fmla="*/ 625680 h 84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Puzzle1"/>
            <p:cNvSpPr/>
            <p:nvPr/>
          </p:nvSpPr>
          <p:spPr>
            <a:xfrm rot="21090600">
              <a:off x="1900440" y="5546520"/>
              <a:ext cx="907560" cy="504360"/>
            </a:xfrm>
            <a:custGeom>
              <a:avLst/>
              <a:gdLst>
                <a:gd name="textAreaLeft" fmla="*/ 255600 w 907560"/>
                <a:gd name="textAreaRight" fmla="*/ 677880 w 907560"/>
                <a:gd name="textAreaTop" fmla="*/ 59760 h 504360"/>
                <a:gd name="textAreaBottom" fmla="*/ 456480 h 50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22"/>
          <p:cNvGrpSpPr/>
          <p:nvPr/>
        </p:nvGrpSpPr>
        <p:grpSpPr>
          <a:xfrm>
            <a:off x="3444120" y="4965480"/>
            <a:ext cx="1666800" cy="1675440"/>
            <a:chOff x="3444120" y="4965480"/>
            <a:chExt cx="1666800" cy="1675440"/>
          </a:xfrm>
        </p:grpSpPr>
        <p:sp>
          <p:nvSpPr>
            <p:cNvPr id="99" name="Puzzle3"/>
            <p:cNvSpPr/>
            <p:nvPr/>
          </p:nvSpPr>
          <p:spPr>
            <a:xfrm rot="3221400">
              <a:off x="4394520" y="5474880"/>
              <a:ext cx="551520" cy="688320"/>
            </a:xfrm>
            <a:custGeom>
              <a:avLst/>
              <a:gdLst>
                <a:gd name="textAreaLeft" fmla="*/ 57960 w 551520"/>
                <a:gd name="textAreaRight" fmla="*/ 489240 w 551520"/>
                <a:gd name="textAreaTop" fmla="*/ 245880 h 688320"/>
                <a:gd name="textAreaBottom" fmla="*/ 644760 h 68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Puzzle2"/>
            <p:cNvSpPr/>
            <p:nvPr/>
          </p:nvSpPr>
          <p:spPr>
            <a:xfrm rot="3221400">
              <a:off x="3853080" y="5787360"/>
              <a:ext cx="880200" cy="626760"/>
            </a:xfrm>
            <a:custGeom>
              <a:avLst/>
              <a:gdLst>
                <a:gd name="textAreaLeft" fmla="*/ 219600 w 880200"/>
                <a:gd name="textAreaRight" fmla="*/ 659520 w 880200"/>
                <a:gd name="textAreaTop" fmla="*/ 195480 h 626760"/>
                <a:gd name="textAreaBottom" fmla="*/ 593280 h 62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Puzzle4"/>
            <p:cNvSpPr/>
            <p:nvPr/>
          </p:nvSpPr>
          <p:spPr>
            <a:xfrm rot="3221400">
              <a:off x="3658680" y="5331600"/>
              <a:ext cx="530640" cy="801360"/>
            </a:xfrm>
            <a:custGeom>
              <a:avLst/>
              <a:gdLst>
                <a:gd name="textAreaLeft" fmla="*/ 50760 w 530640"/>
                <a:gd name="textAreaRight" fmla="*/ 496800 w 530640"/>
                <a:gd name="textAreaTop" fmla="*/ 209880 h 801360"/>
                <a:gd name="textAreaBottom" fmla="*/ 592920 h 80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Puzzle1"/>
            <p:cNvSpPr/>
            <p:nvPr/>
          </p:nvSpPr>
          <p:spPr>
            <a:xfrm rot="3221400">
              <a:off x="3837960" y="5227200"/>
              <a:ext cx="891360" cy="477720"/>
            </a:xfrm>
            <a:custGeom>
              <a:avLst/>
              <a:gdLst>
                <a:gd name="textAreaLeft" fmla="*/ 250920 w 891360"/>
                <a:gd name="textAreaRight" fmla="*/ 665640 w 891360"/>
                <a:gd name="textAreaTop" fmla="*/ 56520 h 477720"/>
                <a:gd name="textAreaBottom" fmla="*/ 432360 h 47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2"/>
          <p:cNvGrpSpPr/>
          <p:nvPr/>
        </p:nvGrpSpPr>
        <p:grpSpPr>
          <a:xfrm>
            <a:off x="5266440" y="5096880"/>
            <a:ext cx="1596600" cy="1527480"/>
            <a:chOff x="5266440" y="5096880"/>
            <a:chExt cx="1596600" cy="1527480"/>
          </a:xfrm>
        </p:grpSpPr>
        <p:sp>
          <p:nvSpPr>
            <p:cNvPr id="104" name="Puzzle3"/>
            <p:cNvSpPr/>
            <p:nvPr/>
          </p:nvSpPr>
          <p:spPr>
            <a:xfrm rot="20678400">
              <a:off x="5951160" y="5157360"/>
              <a:ext cx="551520" cy="688320"/>
            </a:xfrm>
            <a:custGeom>
              <a:avLst/>
              <a:gdLst>
                <a:gd name="textAreaLeft" fmla="*/ 57960 w 551520"/>
                <a:gd name="textAreaRight" fmla="*/ 489240 w 551520"/>
                <a:gd name="textAreaTop" fmla="*/ 245880 h 688320"/>
                <a:gd name="textAreaBottom" fmla="*/ 644760 h 68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Puzzle2"/>
            <p:cNvSpPr/>
            <p:nvPr/>
          </p:nvSpPr>
          <p:spPr>
            <a:xfrm rot="20678400">
              <a:off x="5915160" y="5641200"/>
              <a:ext cx="880200" cy="626760"/>
            </a:xfrm>
            <a:custGeom>
              <a:avLst/>
              <a:gdLst>
                <a:gd name="textAreaLeft" fmla="*/ 219600 w 880200"/>
                <a:gd name="textAreaRight" fmla="*/ 659520 w 880200"/>
                <a:gd name="textAreaTop" fmla="*/ 195480 h 626760"/>
                <a:gd name="textAreaBottom" fmla="*/ 593280 h 62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Puzzle4"/>
            <p:cNvSpPr/>
            <p:nvPr/>
          </p:nvSpPr>
          <p:spPr>
            <a:xfrm rot="20678400">
              <a:off x="5614200" y="5767200"/>
              <a:ext cx="530640" cy="801360"/>
            </a:xfrm>
            <a:custGeom>
              <a:avLst/>
              <a:gdLst>
                <a:gd name="textAreaLeft" fmla="*/ 50760 w 530640"/>
                <a:gd name="textAreaRight" fmla="*/ 496800 w 530640"/>
                <a:gd name="textAreaTop" fmla="*/ 209880 h 801360"/>
                <a:gd name="textAreaBottom" fmla="*/ 592920 h 80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Puzzle1"/>
            <p:cNvSpPr/>
            <p:nvPr/>
          </p:nvSpPr>
          <p:spPr>
            <a:xfrm rot="20678400">
              <a:off x="5313600" y="5497920"/>
              <a:ext cx="891360" cy="477720"/>
            </a:xfrm>
            <a:custGeom>
              <a:avLst/>
              <a:gdLst>
                <a:gd name="textAreaLeft" fmla="*/ 250920 w 891360"/>
                <a:gd name="textAreaRight" fmla="*/ 665640 w 891360"/>
                <a:gd name="textAreaTop" fmla="*/ 56520 h 477720"/>
                <a:gd name="textAreaBottom" fmla="*/ 432360 h 47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22"/>
          <p:cNvGrpSpPr/>
          <p:nvPr/>
        </p:nvGrpSpPr>
        <p:grpSpPr>
          <a:xfrm>
            <a:off x="7572600" y="3267000"/>
            <a:ext cx="1553400" cy="1473480"/>
            <a:chOff x="7572600" y="3267000"/>
            <a:chExt cx="1553400" cy="1473480"/>
          </a:xfrm>
        </p:grpSpPr>
        <p:sp>
          <p:nvSpPr>
            <p:cNvPr id="109" name="Puzzle3"/>
            <p:cNvSpPr/>
            <p:nvPr/>
          </p:nvSpPr>
          <p:spPr>
            <a:xfrm rot="20934600">
              <a:off x="8263800" y="3313440"/>
              <a:ext cx="551520" cy="688320"/>
            </a:xfrm>
            <a:custGeom>
              <a:avLst/>
              <a:gdLst>
                <a:gd name="textAreaLeft" fmla="*/ 57960 w 551520"/>
                <a:gd name="textAreaRight" fmla="*/ 489240 w 551520"/>
                <a:gd name="textAreaTop" fmla="*/ 245880 h 688320"/>
                <a:gd name="textAreaBottom" fmla="*/ 644760 h 68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Puzzle2"/>
            <p:cNvSpPr/>
            <p:nvPr/>
          </p:nvSpPr>
          <p:spPr>
            <a:xfrm rot="20934600">
              <a:off x="8193600" y="3805560"/>
              <a:ext cx="880200" cy="626760"/>
            </a:xfrm>
            <a:custGeom>
              <a:avLst/>
              <a:gdLst>
                <a:gd name="textAreaLeft" fmla="*/ 219600 w 880200"/>
                <a:gd name="textAreaRight" fmla="*/ 659520 w 880200"/>
                <a:gd name="textAreaTop" fmla="*/ 195480 h 626760"/>
                <a:gd name="textAreaBottom" fmla="*/ 593280 h 62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Puzzle4"/>
            <p:cNvSpPr/>
            <p:nvPr/>
          </p:nvSpPr>
          <p:spPr>
            <a:xfrm rot="20934600">
              <a:off x="7878240" y="3895560"/>
              <a:ext cx="530640" cy="801360"/>
            </a:xfrm>
            <a:custGeom>
              <a:avLst/>
              <a:gdLst>
                <a:gd name="textAreaLeft" fmla="*/ 50760 w 530640"/>
                <a:gd name="textAreaRight" fmla="*/ 496800 w 530640"/>
                <a:gd name="textAreaTop" fmla="*/ 209880 h 801360"/>
                <a:gd name="textAreaBottom" fmla="*/ 592920 h 80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Puzzle1"/>
            <p:cNvSpPr/>
            <p:nvPr/>
          </p:nvSpPr>
          <p:spPr>
            <a:xfrm rot="20934600">
              <a:off x="7610040" y="3618720"/>
              <a:ext cx="891360" cy="477720"/>
            </a:xfrm>
            <a:custGeom>
              <a:avLst/>
              <a:gdLst>
                <a:gd name="textAreaLeft" fmla="*/ 250920 w 891360"/>
                <a:gd name="textAreaRight" fmla="*/ 665640 w 891360"/>
                <a:gd name="textAreaTop" fmla="*/ 56520 h 477720"/>
                <a:gd name="textAreaBottom" fmla="*/ 432360 h 47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43640" cy="1785960"/>
            <a:chOff x="0" y="0"/>
            <a:chExt cx="9143640" cy="1785960"/>
          </a:xfrm>
        </p:grpSpPr>
        <p:pic>
          <p:nvPicPr>
            <p:cNvPr id="114" name="Picture 3" descr="все о мозаике"/>
            <p:cNvPicPr/>
            <p:nvPr/>
          </p:nvPicPr>
          <p:blipFill>
            <a:blip r:embed="rId1"/>
            <a:stretch/>
          </p:blipFill>
          <p:spPr>
            <a:xfrm>
              <a:off x="3145320" y="0"/>
              <a:ext cx="3029040" cy="17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4" descr="все о мозаике1"/>
            <p:cNvPicPr/>
            <p:nvPr/>
          </p:nvPicPr>
          <p:blipFill>
            <a:blip r:embed="rId2"/>
            <a:stretch/>
          </p:blipFill>
          <p:spPr>
            <a:xfrm>
              <a:off x="6107760" y="0"/>
              <a:ext cx="3035880" cy="176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5" descr="все о мозаике2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3259440" cy="1776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7" name="Picture 7" descr="у"/>
          <p:cNvPicPr/>
          <p:nvPr/>
        </p:nvPicPr>
        <p:blipFill>
          <a:blip r:embed="rId4"/>
          <a:stretch/>
        </p:blipFill>
        <p:spPr>
          <a:xfrm>
            <a:off x="826920" y="3068640"/>
            <a:ext cx="2989440" cy="3429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ц"/>
          <p:cNvPicPr/>
          <p:nvPr/>
        </p:nvPicPr>
        <p:blipFill>
          <a:blip r:embed="rId5"/>
          <a:stretch/>
        </p:blipFill>
        <p:spPr>
          <a:xfrm>
            <a:off x="5219640" y="3068640"/>
            <a:ext cx="3167280" cy="3357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древ моз"/>
          <p:cNvPicPr/>
          <p:nvPr/>
        </p:nvPicPr>
        <p:blipFill>
          <a:blip r:embed="rId6"/>
          <a:stretch/>
        </p:blipFill>
        <p:spPr>
          <a:xfrm>
            <a:off x="2627280" y="3068640"/>
            <a:ext cx="3581280" cy="3505320"/>
          </a:xfrm>
          <a:prstGeom prst="rect">
            <a:avLst/>
          </a:prstGeom>
          <a:ln w="0">
            <a:noFill/>
          </a:ln>
        </p:spPr>
      </p:pic>
      <p:pic>
        <p:nvPicPr>
          <p:cNvPr id="120" name="Rectangle 10" descr=""/>
          <p:cNvPicPr/>
          <p:nvPr/>
        </p:nvPicPr>
        <p:blipFill>
          <a:blip r:embed="rId7"/>
          <a:stretch/>
        </p:blipFill>
        <p:spPr>
          <a:xfrm>
            <a:off x="1773360" y="2255760"/>
            <a:ext cx="5773680" cy="768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2"/>
          <p:cNvGrpSpPr/>
          <p:nvPr/>
        </p:nvGrpSpPr>
        <p:grpSpPr>
          <a:xfrm>
            <a:off x="0" y="0"/>
            <a:ext cx="9143640" cy="1643040"/>
            <a:chOff x="0" y="0"/>
            <a:chExt cx="9143640" cy="1643040"/>
          </a:xfrm>
        </p:grpSpPr>
        <p:pic>
          <p:nvPicPr>
            <p:cNvPr id="122" name="Picture 3" descr="все о мозаике"/>
            <p:cNvPicPr/>
            <p:nvPr/>
          </p:nvPicPr>
          <p:blipFill>
            <a:blip r:embed="rId1"/>
            <a:stretch/>
          </p:blipFill>
          <p:spPr>
            <a:xfrm>
              <a:off x="3145320" y="0"/>
              <a:ext cx="3029040" cy="16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4" descr="все о мозаике1"/>
            <p:cNvPicPr/>
            <p:nvPr/>
          </p:nvPicPr>
          <p:blipFill>
            <a:blip r:embed="rId2"/>
            <a:stretch/>
          </p:blipFill>
          <p:spPr>
            <a:xfrm>
              <a:off x="6107760" y="0"/>
              <a:ext cx="3035880" cy="162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5" descr="все о мозаике2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3259440" cy="1634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" name="Picture 6" descr="моз бож кор"/>
          <p:cNvPicPr/>
          <p:nvPr/>
        </p:nvPicPr>
        <p:blipFill>
          <a:blip r:embed="rId4"/>
          <a:stretch/>
        </p:blipFill>
        <p:spPr>
          <a:xfrm>
            <a:off x="1547640" y="3500280"/>
            <a:ext cx="2394000" cy="28101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26" name="Picture 7" descr="моз стекло"/>
          <p:cNvPicPr/>
          <p:nvPr/>
        </p:nvPicPr>
        <p:blipFill>
          <a:blip r:embed="rId5"/>
          <a:stretch/>
        </p:blipFill>
        <p:spPr>
          <a:xfrm>
            <a:off x="5580000" y="3429000"/>
            <a:ext cx="2154240" cy="2873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27" name="Rectangle 8" descr=""/>
          <p:cNvPicPr/>
          <p:nvPr/>
        </p:nvPicPr>
        <p:blipFill>
          <a:blip r:embed="rId6"/>
          <a:stretch/>
        </p:blipFill>
        <p:spPr>
          <a:xfrm>
            <a:off x="493560" y="2408400"/>
            <a:ext cx="7869240" cy="676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0" y="0"/>
            <a:ext cx="9143640" cy="1857240"/>
            <a:chOff x="0" y="0"/>
            <a:chExt cx="9143640" cy="1857240"/>
          </a:xfrm>
        </p:grpSpPr>
        <p:pic>
          <p:nvPicPr>
            <p:cNvPr id="129" name="Picture 3" descr="все о мозаике"/>
            <p:cNvPicPr/>
            <p:nvPr/>
          </p:nvPicPr>
          <p:blipFill>
            <a:blip r:embed="rId1"/>
            <a:stretch/>
          </p:blipFill>
          <p:spPr>
            <a:xfrm>
              <a:off x="3145320" y="0"/>
              <a:ext cx="3029040" cy="185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4" descr="все о мозаике1"/>
            <p:cNvPicPr/>
            <p:nvPr/>
          </p:nvPicPr>
          <p:blipFill>
            <a:blip r:embed="rId2"/>
            <a:stretch/>
          </p:blipFill>
          <p:spPr>
            <a:xfrm>
              <a:off x="6107760" y="0"/>
              <a:ext cx="3035880" cy="183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5" descr="все о мозаике2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3259440" cy="1847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2" name="Picture 8" descr="моз лотос"/>
          <p:cNvPicPr/>
          <p:nvPr/>
        </p:nvPicPr>
        <p:blipFill>
          <a:blip r:embed="rId4"/>
          <a:stretch/>
        </p:blipFill>
        <p:spPr>
          <a:xfrm>
            <a:off x="250920" y="2349360"/>
            <a:ext cx="2295360" cy="2592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мозаика"/>
          <p:cNvPicPr/>
          <p:nvPr/>
        </p:nvPicPr>
        <p:blipFill>
          <a:blip r:embed="rId5"/>
          <a:stretch/>
        </p:blipFill>
        <p:spPr>
          <a:xfrm>
            <a:off x="2916360" y="4437000"/>
            <a:ext cx="2592360" cy="193536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  <p:pic>
        <p:nvPicPr>
          <p:cNvPr id="134" name="Rectangle 14" descr=""/>
          <p:cNvPicPr/>
          <p:nvPr/>
        </p:nvPicPr>
        <p:blipFill>
          <a:blip r:embed="rId6"/>
          <a:stretch/>
        </p:blipFill>
        <p:spPr>
          <a:xfrm>
            <a:off x="2517840" y="3029040"/>
            <a:ext cx="6772320" cy="592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моз мак"/>
          <p:cNvPicPr/>
          <p:nvPr/>
        </p:nvPicPr>
        <p:blipFill>
          <a:blip r:embed="rId7"/>
          <a:stretch/>
        </p:blipFill>
        <p:spPr>
          <a:xfrm>
            <a:off x="6572160" y="3857760"/>
            <a:ext cx="2090880" cy="2508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0"/>
            <a:ext cx="9143640" cy="1928880"/>
            <a:chOff x="0" y="0"/>
            <a:chExt cx="9143640" cy="1928880"/>
          </a:xfrm>
        </p:grpSpPr>
        <p:pic>
          <p:nvPicPr>
            <p:cNvPr id="137" name="Picture 3" descr="все о мозаике"/>
            <p:cNvPicPr/>
            <p:nvPr/>
          </p:nvPicPr>
          <p:blipFill>
            <a:blip r:embed="rId1"/>
            <a:stretch/>
          </p:blipFill>
          <p:spPr>
            <a:xfrm>
              <a:off x="3145320" y="0"/>
              <a:ext cx="3029040" cy="19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4" descr="все о мозаике1"/>
            <p:cNvPicPr/>
            <p:nvPr/>
          </p:nvPicPr>
          <p:blipFill>
            <a:blip r:embed="rId2"/>
            <a:stretch/>
          </p:blipFill>
          <p:spPr>
            <a:xfrm>
              <a:off x="6107760" y="0"/>
              <a:ext cx="3035880" cy="19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5" descr="все о мозаике2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3259440" cy="191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0" name="Picture 9" descr="моз дракон"/>
          <p:cNvPicPr/>
          <p:nvPr/>
        </p:nvPicPr>
        <p:blipFill>
          <a:blip r:embed="rId4"/>
          <a:stretch/>
        </p:blipFill>
        <p:spPr>
          <a:xfrm>
            <a:off x="395280" y="2781360"/>
            <a:ext cx="2338560" cy="30970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41" name="Picture 11" descr="моз кошка"/>
          <p:cNvPicPr/>
          <p:nvPr/>
        </p:nvPicPr>
        <p:blipFill>
          <a:blip r:embed="rId5"/>
          <a:stretch/>
        </p:blipFill>
        <p:spPr>
          <a:xfrm>
            <a:off x="6454800" y="2781360"/>
            <a:ext cx="2203560" cy="3095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42" name="Rectangle 13" descr=""/>
          <p:cNvPicPr/>
          <p:nvPr/>
        </p:nvPicPr>
        <p:blipFill>
          <a:blip r:embed="rId6"/>
          <a:stretch/>
        </p:blipFill>
        <p:spPr>
          <a:xfrm>
            <a:off x="3236760" y="3193920"/>
            <a:ext cx="2975040" cy="1298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285840" y="142920"/>
            <a:ext cx="9143640" cy="1928880"/>
            <a:chOff x="285840" y="142920"/>
            <a:chExt cx="9143640" cy="1928880"/>
          </a:xfrm>
        </p:grpSpPr>
        <p:pic>
          <p:nvPicPr>
            <p:cNvPr id="144" name="Picture 3" descr="все о мозаике"/>
            <p:cNvPicPr/>
            <p:nvPr/>
          </p:nvPicPr>
          <p:blipFill>
            <a:blip r:embed="rId1"/>
            <a:stretch/>
          </p:blipFill>
          <p:spPr>
            <a:xfrm>
              <a:off x="3431160" y="142920"/>
              <a:ext cx="3029040" cy="19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4" descr="все о мозаике1"/>
            <p:cNvPicPr/>
            <p:nvPr/>
          </p:nvPicPr>
          <p:blipFill>
            <a:blip r:embed="rId2"/>
            <a:stretch/>
          </p:blipFill>
          <p:spPr>
            <a:xfrm>
              <a:off x="6393600" y="142920"/>
              <a:ext cx="3035880" cy="19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5" descr="все о мозаике2"/>
            <p:cNvPicPr/>
            <p:nvPr/>
          </p:nvPicPr>
          <p:blipFill>
            <a:blip r:embed="rId3"/>
            <a:stretch/>
          </p:blipFill>
          <p:spPr>
            <a:xfrm>
              <a:off x="285840" y="142920"/>
              <a:ext cx="3259440" cy="191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7" name="Picture 8" descr="моз кафель"/>
          <p:cNvPicPr/>
          <p:nvPr/>
        </p:nvPicPr>
        <p:blipFill>
          <a:blip r:embed="rId4"/>
          <a:stretch/>
        </p:blipFill>
        <p:spPr>
          <a:xfrm>
            <a:off x="285840" y="3929040"/>
            <a:ext cx="3744720" cy="2643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моз кувшин"/>
          <p:cNvPicPr/>
          <p:nvPr/>
        </p:nvPicPr>
        <p:blipFill>
          <a:blip r:embed="rId5"/>
          <a:stretch/>
        </p:blipFill>
        <p:spPr>
          <a:xfrm>
            <a:off x="6348240" y="2492280"/>
            <a:ext cx="2292480" cy="2665440"/>
          </a:xfrm>
          <a:prstGeom prst="rect">
            <a:avLst/>
          </a:prstGeom>
          <a:ln w="0">
            <a:noFill/>
          </a:ln>
        </p:spPr>
      </p:pic>
      <p:pic>
        <p:nvPicPr>
          <p:cNvPr id="149" name="Rectangle 11" descr=""/>
          <p:cNvPicPr/>
          <p:nvPr/>
        </p:nvPicPr>
        <p:blipFill>
          <a:blip r:embed="rId6"/>
          <a:stretch/>
        </p:blipFill>
        <p:spPr>
          <a:xfrm>
            <a:off x="341280" y="2505240"/>
            <a:ext cx="5383080" cy="1023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0" y="0"/>
            <a:ext cx="9143640" cy="2000160"/>
            <a:chOff x="0" y="0"/>
            <a:chExt cx="9143640" cy="2000160"/>
          </a:xfrm>
        </p:grpSpPr>
        <p:pic>
          <p:nvPicPr>
            <p:cNvPr id="151" name="Picture 3" descr="все о мозаике"/>
            <p:cNvPicPr/>
            <p:nvPr/>
          </p:nvPicPr>
          <p:blipFill>
            <a:blip r:embed="rId1"/>
            <a:stretch/>
          </p:blipFill>
          <p:spPr>
            <a:xfrm>
              <a:off x="3145320" y="0"/>
              <a:ext cx="3029040" cy="20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" descr="все о мозаике1"/>
            <p:cNvPicPr/>
            <p:nvPr/>
          </p:nvPicPr>
          <p:blipFill>
            <a:blip r:embed="rId2"/>
            <a:stretch/>
          </p:blipFill>
          <p:spPr>
            <a:xfrm>
              <a:off x="6107760" y="0"/>
              <a:ext cx="3035880" cy="197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5" descr="все о мозаике2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3259440" cy="1989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4" name="Picture 8" descr="моз ванна"/>
          <p:cNvPicPr/>
          <p:nvPr/>
        </p:nvPicPr>
        <p:blipFill>
          <a:blip r:embed="rId4"/>
          <a:stretch/>
        </p:blipFill>
        <p:spPr>
          <a:xfrm>
            <a:off x="468360" y="2421000"/>
            <a:ext cx="2808360" cy="1990800"/>
          </a:xfrm>
          <a:prstGeom prst="rect">
            <a:avLst/>
          </a:prstGeom>
          <a:ln w="76320">
            <a:solidFill>
              <a:srgbClr val="0066ff"/>
            </a:solidFill>
            <a:miter/>
          </a:ln>
        </p:spPr>
      </p:pic>
      <p:pic>
        <p:nvPicPr>
          <p:cNvPr id="155" name="Picture 9" descr="моз дом"/>
          <p:cNvPicPr/>
          <p:nvPr/>
        </p:nvPicPr>
        <p:blipFill>
          <a:blip r:embed="rId5"/>
          <a:stretch/>
        </p:blipFill>
        <p:spPr>
          <a:xfrm>
            <a:off x="5435640" y="3968640"/>
            <a:ext cx="3449520" cy="258768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pic>
        <p:nvPicPr>
          <p:cNvPr id="156" name="Rectangle 10" descr=""/>
          <p:cNvPicPr/>
          <p:nvPr/>
        </p:nvPicPr>
        <p:blipFill>
          <a:blip r:embed="rId6"/>
          <a:stretch/>
        </p:blipFill>
        <p:spPr>
          <a:xfrm>
            <a:off x="3340080" y="2700360"/>
            <a:ext cx="5743440" cy="11034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1"/>
          <p:cNvSpPr/>
          <p:nvPr/>
        </p:nvSpPr>
        <p:spPr>
          <a:xfrm>
            <a:off x="142920" y="5877000"/>
            <a:ext cx="514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no Pro Caption"/>
              </a:rPr>
              <a:t>ФАСАДА ДОМА И ДОРОЖ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2"/>
          <p:cNvSpPr/>
          <p:nvPr/>
        </p:nvSpPr>
        <p:spPr>
          <a:xfrm>
            <a:off x="17280" y="4724280"/>
            <a:ext cx="479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no Pro Caption"/>
              </a:rPr>
              <a:t>ванной</a:t>
            </a:r>
            <a:r>
              <a:rPr b="1" lang="ru-RU" sz="4400" spc="-1" strike="noStrike">
                <a:solidFill>
                  <a:srgbClr val="003300"/>
                </a:solidFill>
                <a:latin typeface="Arno Pro Caption"/>
              </a:rPr>
              <a:t> </a:t>
            </a:r>
            <a:r>
              <a:rPr b="0" lang="ru-RU" sz="4400" spc="-1" strike="noStrike">
                <a:solidFill>
                  <a:srgbClr val="003300"/>
                </a:solidFill>
                <a:latin typeface="Arno Pro Caption"/>
              </a:rPr>
              <a:t>комн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2"/>
          <p:cNvGrpSpPr/>
          <p:nvPr/>
        </p:nvGrpSpPr>
        <p:grpSpPr>
          <a:xfrm>
            <a:off x="0" y="0"/>
            <a:ext cx="9143640" cy="2000160"/>
            <a:chOff x="0" y="0"/>
            <a:chExt cx="9143640" cy="2000160"/>
          </a:xfrm>
        </p:grpSpPr>
        <p:pic>
          <p:nvPicPr>
            <p:cNvPr id="160" name="Picture 3" descr="все о мозаике"/>
            <p:cNvPicPr/>
            <p:nvPr/>
          </p:nvPicPr>
          <p:blipFill>
            <a:blip r:embed="rId1"/>
            <a:stretch/>
          </p:blipFill>
          <p:spPr>
            <a:xfrm>
              <a:off x="3145320" y="0"/>
              <a:ext cx="3029040" cy="20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4" descr="все о мозаике1"/>
            <p:cNvPicPr/>
            <p:nvPr/>
          </p:nvPicPr>
          <p:blipFill>
            <a:blip r:embed="rId2"/>
            <a:stretch/>
          </p:blipFill>
          <p:spPr>
            <a:xfrm>
              <a:off x="6107760" y="0"/>
              <a:ext cx="3035880" cy="197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5" descr="все о мозаике2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3259440" cy="1989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3" name="Picture 8" descr="рукой моз"/>
          <p:cNvPicPr/>
          <p:nvPr/>
        </p:nvPicPr>
        <p:blipFill>
          <a:blip r:embed="rId4"/>
          <a:stretch/>
        </p:blipFill>
        <p:spPr>
          <a:xfrm>
            <a:off x="2050920" y="2276640"/>
            <a:ext cx="5187960" cy="4319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1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5T15:05:41Z</dcterms:created>
  <dc:creator>Ольга Вадимовна</dc:creator>
  <dc:description/>
  <dc:language>en-US</dc:language>
  <cp:lastModifiedBy>Admin</cp:lastModifiedBy>
  <dcterms:modified xsi:type="dcterms:W3CDTF">2011-01-19T13:14:30Z</dcterms:modified>
  <cp:revision>23</cp:revision>
  <dc:subject/>
  <dc:title>Слайд 1</dc:title>
</cp:coreProperties>
</file>