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4CE-9E7D-4682-8F1C-6CB5BD73D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82BA-68EE-4383-A484-0790352CD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БРИКА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0098-2B9B-4D6B-BFD5-CF975E299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7C3-EEC8-4482-81D0-47686AC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BF8-7750-4BEE-B60D-F9423BF5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400-2C12-4D73-9222-B3D035BB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3CD-ADD9-4036-A2B6-DD85F17F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011-CBA5-4CA3-9F02-76D79BDF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E3A-75F2-4131-9411-A96FCA2B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9D3-BFE6-4B19-953B-6C84F015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7BF-8103-4B43-ABDC-405FD12E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566-25DA-4F9D-BFDF-1F4311D7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688-40F4-438F-A160-0E2D5E8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7DA-3044-4AA7-BB19-3A8FB7E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17D-A5BD-403D-88E3-83A575A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D19-B0F4-4DAA-92B4-D109847E0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932360" y="1197000"/>
            <a:ext cx="38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ИХАИЛ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(1711 – 17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MCj02900630000[1]"/>
          <p:cNvPicPr/>
          <p:nvPr/>
        </p:nvPicPr>
        <p:blipFill>
          <a:blip r:embed="rId1"/>
          <a:stretch/>
        </p:blipFill>
        <p:spPr>
          <a:xfrm>
            <a:off x="5715000" y="4076640"/>
            <a:ext cx="196992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Рисунок3"/>
          <p:cNvPicPr/>
          <p:nvPr/>
        </p:nvPicPr>
        <p:blipFill>
          <a:blip r:embed="rId2"/>
          <a:stretch/>
        </p:blipFill>
        <p:spPr>
          <a:xfrm>
            <a:off x="755640" y="765000"/>
            <a:ext cx="3571920" cy="4686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42920" y="549360"/>
            <a:ext cx="7427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Усть-Рудицкая фабрика"/>
          <p:cNvPicPr/>
          <p:nvPr/>
        </p:nvPicPr>
        <p:blipFill>
          <a:blip r:embed="rId1"/>
          <a:stretch/>
        </p:blipFill>
        <p:spPr>
          <a:xfrm>
            <a:off x="3924360" y="2421000"/>
            <a:ext cx="4724280" cy="3747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фабрика Ломоносова"/>
          <p:cNvPicPr/>
          <p:nvPr/>
        </p:nvPicPr>
        <p:blipFill>
          <a:blip r:embed="rId2"/>
          <a:stretch/>
        </p:blipFill>
        <p:spPr>
          <a:xfrm>
            <a:off x="179280" y="1557360"/>
            <a:ext cx="3961080" cy="2282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478520" y="476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ФАБРИКА ЛОМОНОС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534960" y="401760"/>
            <a:ext cx="82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КАРТИНЫ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ломоносов и екатерина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4824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3640" y="616572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.В.Ломоносов показывает свои работы импер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50920" y="606600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портрет петра1"/>
          <p:cNvPicPr/>
          <p:nvPr/>
        </p:nvPicPr>
        <p:blipFill>
          <a:blip r:embed="rId1"/>
          <a:stretch/>
        </p:blipFill>
        <p:spPr>
          <a:xfrm>
            <a:off x="2771640" y="1052640"/>
            <a:ext cx="3894120" cy="5184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2600" y="263520"/>
            <a:ext cx="91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РАБОТЫ  М.В.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мозаика"/>
          <p:cNvPicPr/>
          <p:nvPr/>
        </p:nvPicPr>
        <p:blipFill>
          <a:blip r:embed="rId1"/>
          <a:stretch/>
        </p:blipFill>
        <p:spPr>
          <a:xfrm>
            <a:off x="250920" y="1268280"/>
            <a:ext cx="403200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26028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581640" cy="4824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844360" y="623556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тавская ба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РАБОТЫ  М.В.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684360" y="5445000"/>
            <a:ext cx="80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проекту Ломоносова был осно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88360" y="258840"/>
            <a:ext cx="70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СКОВСКИЙ УНИВЕРС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264360" cy="432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177804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lide0003_image008"/>
          <p:cNvPicPr/>
          <p:nvPr/>
        </p:nvPicPr>
        <p:blipFill>
          <a:blip r:embed="rId1"/>
          <a:stretch/>
        </p:blipFill>
        <p:spPr>
          <a:xfrm>
            <a:off x="1403280" y="1341360"/>
            <a:ext cx="6407280" cy="4125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219680" y="5734080"/>
            <a:ext cx="73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ревня Мишанинская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User\Рабочий стол\Ломоносов\zal1_img.jpg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303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105560" y="5950080"/>
            <a:ext cx="71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"Быт поморской семьи 18в.", художник Румянцев А.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845440" y="25884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УТЬ В МОС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путь в москву"/>
          <p:cNvPicPr/>
          <p:nvPr/>
        </p:nvPicPr>
        <p:blipFill>
          <a:blip r:embed="rId1"/>
          <a:stretch/>
        </p:blipFill>
        <p:spPr>
          <a:xfrm>
            <a:off x="250920" y="1268280"/>
            <a:ext cx="4103640" cy="518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1262160" y="256536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лмо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333440" y="5805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 rot="21102000">
            <a:off x="3276720" y="2636640"/>
            <a:ext cx="649080" cy="43164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в москву"/>
          <p:cNvPicPr/>
          <p:nvPr/>
        </p:nvPicPr>
        <p:blipFill>
          <a:blip r:embed="rId2"/>
          <a:stretch/>
        </p:blipFill>
        <p:spPr>
          <a:xfrm>
            <a:off x="4716360" y="1197000"/>
            <a:ext cx="41547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6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774160" y="18720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ЁБ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Рисунок1"/>
          <p:cNvPicPr/>
          <p:nvPr/>
        </p:nvPicPr>
        <p:blipFill>
          <a:blip r:embed="rId1"/>
          <a:stretch/>
        </p:blipFill>
        <p:spPr>
          <a:xfrm>
            <a:off x="4716360" y="981000"/>
            <a:ext cx="411012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ломоносов"/>
          <p:cNvPicPr/>
          <p:nvPr/>
        </p:nvPicPr>
        <p:blipFill>
          <a:blip r:embed="rId2"/>
          <a:stretch/>
        </p:blipFill>
        <p:spPr>
          <a:xfrm>
            <a:off x="611280" y="981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24000" y="620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ЕБА В САНКТ-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233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708360" y="4759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ЕБА В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Рисунок5"/>
          <p:cNvPicPr/>
          <p:nvPr/>
        </p:nvPicPr>
        <p:blipFill>
          <a:blip r:embed="rId1"/>
          <a:stretch/>
        </p:blipFill>
        <p:spPr>
          <a:xfrm>
            <a:off x="4356000" y="1628640"/>
            <a:ext cx="3405240" cy="492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lide0012_image024"/>
          <p:cNvPicPr/>
          <p:nvPr/>
        </p:nvPicPr>
        <p:blipFill>
          <a:blip r:embed="rId2"/>
          <a:stretch/>
        </p:blipFill>
        <p:spPr>
          <a:xfrm>
            <a:off x="395280" y="404640"/>
            <a:ext cx="318312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334520" y="3319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ЛОМОНОСОВ - УЧ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lomonosov"/>
          <p:cNvPicPr/>
          <p:nvPr/>
        </p:nvPicPr>
        <p:blipFill>
          <a:blip r:embed="rId1"/>
          <a:stretch/>
        </p:blipFill>
        <p:spPr>
          <a:xfrm rot="21192000">
            <a:off x="723600" y="1823760"/>
            <a:ext cx="321948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1" descr="ломоносов"/>
          <p:cNvPicPr/>
          <p:nvPr/>
        </p:nvPicPr>
        <p:blipFill>
          <a:blip r:embed="rId2"/>
          <a:stretch/>
        </p:blipFill>
        <p:spPr>
          <a:xfrm>
            <a:off x="4932360" y="1413000"/>
            <a:ext cx="34956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42920" y="549360"/>
            <a:ext cx="7427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50x280"/>
          <p:cNvPicPr/>
          <p:nvPr/>
        </p:nvPicPr>
        <p:blipFill>
          <a:blip r:embed="rId1"/>
          <a:stretch/>
        </p:blipFill>
        <p:spPr>
          <a:xfrm>
            <a:off x="4067280" y="2708280"/>
            <a:ext cx="489744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6"/>
          <p:cNvSpPr/>
          <p:nvPr/>
        </p:nvSpPr>
        <p:spPr>
          <a:xfrm>
            <a:off x="1042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ЛОМОНОСОВ - УЧ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лабор"/>
          <p:cNvPicPr/>
          <p:nvPr/>
        </p:nvPicPr>
        <p:blipFill>
          <a:blip r:embed="rId2"/>
          <a:stretch/>
        </p:blipFill>
        <p:spPr>
          <a:xfrm>
            <a:off x="179280" y="1413000"/>
            <a:ext cx="444528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54:22Z</dcterms:created>
  <dc:creator>Qweds</dc:creator>
  <dc:description/>
  <dc:language>en-US</dc:language>
  <cp:lastModifiedBy>Admin</cp:lastModifiedBy>
  <dcterms:modified xsi:type="dcterms:W3CDTF">2011-02-13T16:13:51Z</dcterms:modified>
  <cp:revision>25</cp:revision>
  <dc:subject/>
  <dc:title>МИХАИЛ ВАСИЛЬЕВИЧ ЛОМОНСОВ</dc:title>
</cp:coreProperties>
</file>